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58C73-5BFB-412D-985F-CB4E3D35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81C4F-1BEA-4B4C-B37E-1825BB12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79434-1AED-4860-B811-25F7191A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7F940-2729-43A6-B132-02719BC7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60AFF-F843-419C-A61D-FBE9A857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8743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4AAFD-67FB-4AC7-835D-3C478654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0273B-634B-4139-AA2F-EC59E4F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6C74B-C700-4C53-A2F1-4AAAD6BF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1C6A8-701A-444D-B506-D629BE5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14D60-66E5-46E4-AB4D-EDE2FBD4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3A978-F263-4A74-B7D0-3173CCDD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EB98F-159A-49EC-84E5-CB37E794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8743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673480" y="0"/>
            <a:ext cx="1619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969696"/>
                </a:solidFill>
                <a:latin typeface="Times New Roman"/>
              </a:rPr>
              <a:t>深藍海豚</a:t>
            </a:r>
            <a:br>
              <a:rPr sz="1100"/>
            </a:br>
            <a:r>
              <a:rPr b="0" lang="en-US" sz="1100" spc="-1" strike="noStrike">
                <a:solidFill>
                  <a:srgbClr val="969696"/>
                </a:solidFill>
                <a:latin typeface="Times New Roman"/>
              </a:rPr>
              <a:t>aslove@ms43.url.com.tw</a:t>
            </a:r>
            <a:endParaRPr b="0" lang="en-US" sz="11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2603-B131-4C83-8A1A-E4F75EDC4870}" type="slidenum"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關於</a:t>
            </a: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90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透過這份資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您將了解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免除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恐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並有效降低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感染上身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最後，請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</a:rPr>
              <a:t>務必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傳遞本信件中的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</a:rPr>
              <a:t>知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給您身邊所有認識的、或不認識的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因為不是每個人都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</a:rPr>
              <a:t>認真或有足夠的知識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面對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防疫最好的辦法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就是讓您與您身邊的人建構成一個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</a:rPr>
              <a:t>免疫團體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共同防禦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並妥善保護這個團體中不幸受感染的同胞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-609480"/>
            <a:ext cx="3686040" cy="3429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"/>
          <p:cNvSpPr/>
          <p:nvPr/>
        </p:nvSpPr>
        <p:spPr>
          <a:xfrm>
            <a:off x="77148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629480" y="990360"/>
            <a:ext cx="179280" cy="298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 rot="4056600">
            <a:off x="1385280" y="2214360"/>
            <a:ext cx="914400" cy="1971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714680" y="3047760"/>
            <a:ext cx="171360" cy="1522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885680" y="152280"/>
            <a:ext cx="560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因此只有將</a:t>
            </a:r>
            <a:r>
              <a:rPr b="0" lang="zh-TW" sz="2000" spc="-1" strike="noStrike">
                <a:solidFill>
                  <a:srgbClr val="ffff00"/>
                </a:solidFill>
                <a:latin typeface="標楷體"/>
                <a:ea typeface="標楷體"/>
              </a:rPr>
              <a:t>防堵率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提高到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100%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，犧牲少數</a:t>
            </a:r>
            <a:r>
              <a:rPr b="0" lang="zh-TW" sz="2000" spc="-1" strike="noStrike">
                <a:solidFill>
                  <a:srgbClr val="ff3300"/>
                </a:solidFill>
                <a:latin typeface="標楷體"/>
                <a:ea typeface="標楷體"/>
              </a:rPr>
              <a:t>自由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，才能真正防堵</a:t>
            </a:r>
            <a:r>
              <a:rPr b="0" lang="en-US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所以政府只好將所有「確定病患、可能病患、疑似病患、</a:t>
            </a:r>
            <a:br>
              <a:rPr sz="2000"/>
            </a:b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有機會感染的病患」依據危險程度依法 </a:t>
            </a:r>
            <a:r>
              <a:rPr b="1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全部 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隔離！才能徹底防堵</a:t>
            </a:r>
            <a:r>
              <a:rPr b="0" lang="en-US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en-US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。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3" name=""/>
          <p:cNvSpPr/>
          <p:nvPr/>
        </p:nvSpPr>
        <p:spPr>
          <a:xfrm>
            <a:off x="128592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"/>
          <p:cNvSpPr/>
          <p:nvPr/>
        </p:nvSpPr>
        <p:spPr>
          <a:xfrm>
            <a:off x="3772080" y="13716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5" name=""/>
          <p:cNvSpPr/>
          <p:nvPr/>
        </p:nvSpPr>
        <p:spPr>
          <a:xfrm>
            <a:off x="5229360" y="13716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"/>
          <p:cNvSpPr/>
          <p:nvPr/>
        </p:nvSpPr>
        <p:spPr>
          <a:xfrm>
            <a:off x="1800360" y="13716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7" name=""/>
          <p:cNvSpPr/>
          <p:nvPr/>
        </p:nvSpPr>
        <p:spPr>
          <a:xfrm>
            <a:off x="231444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"/>
          <p:cNvSpPr/>
          <p:nvPr/>
        </p:nvSpPr>
        <p:spPr>
          <a:xfrm>
            <a:off x="282888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325764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0" name=""/>
          <p:cNvSpPr/>
          <p:nvPr/>
        </p:nvSpPr>
        <p:spPr>
          <a:xfrm>
            <a:off x="574344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1" name=""/>
          <p:cNvSpPr/>
          <p:nvPr/>
        </p:nvSpPr>
        <p:spPr>
          <a:xfrm>
            <a:off x="420048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2" name=""/>
          <p:cNvSpPr/>
          <p:nvPr/>
        </p:nvSpPr>
        <p:spPr>
          <a:xfrm>
            <a:off x="471492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"/>
          <p:cNvSpPr/>
          <p:nvPr/>
        </p:nvSpPr>
        <p:spPr>
          <a:xfrm>
            <a:off x="5572080" y="1905120"/>
            <a:ext cx="857160" cy="3045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257280" y="1905120"/>
            <a:ext cx="857160" cy="3808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5" name=""/>
          <p:cNvSpPr/>
          <p:nvPr/>
        </p:nvSpPr>
        <p:spPr>
          <a:xfrm>
            <a:off x="6429240" y="22860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6" name=""/>
          <p:cNvSpPr/>
          <p:nvPr/>
        </p:nvSpPr>
        <p:spPr>
          <a:xfrm>
            <a:off x="6943680" y="22860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"/>
          <p:cNvSpPr/>
          <p:nvPr/>
        </p:nvSpPr>
        <p:spPr>
          <a:xfrm>
            <a:off x="7458120" y="22860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8" name=""/>
          <p:cNvSpPr/>
          <p:nvPr/>
        </p:nvSpPr>
        <p:spPr>
          <a:xfrm>
            <a:off x="8400960" y="22860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9" name=""/>
          <p:cNvSpPr/>
          <p:nvPr/>
        </p:nvSpPr>
        <p:spPr>
          <a:xfrm>
            <a:off x="6429240" y="27432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0" name=""/>
          <p:cNvSpPr/>
          <p:nvPr/>
        </p:nvSpPr>
        <p:spPr>
          <a:xfrm>
            <a:off x="7458120" y="27432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"/>
          <p:cNvSpPr/>
          <p:nvPr/>
        </p:nvSpPr>
        <p:spPr>
          <a:xfrm>
            <a:off x="7972560" y="22860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2" name=""/>
          <p:cNvSpPr/>
          <p:nvPr/>
        </p:nvSpPr>
        <p:spPr>
          <a:xfrm>
            <a:off x="8400960" y="27432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3" name=""/>
          <p:cNvSpPr/>
          <p:nvPr/>
        </p:nvSpPr>
        <p:spPr>
          <a:xfrm>
            <a:off x="1114560" y="243828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4" name=""/>
          <p:cNvSpPr/>
          <p:nvPr/>
        </p:nvSpPr>
        <p:spPr>
          <a:xfrm>
            <a:off x="1628640" y="243828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"/>
          <p:cNvSpPr/>
          <p:nvPr/>
        </p:nvSpPr>
        <p:spPr>
          <a:xfrm>
            <a:off x="2143080" y="243828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6" name=""/>
          <p:cNvSpPr/>
          <p:nvPr/>
        </p:nvSpPr>
        <p:spPr>
          <a:xfrm>
            <a:off x="2657520" y="243828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7" name=""/>
          <p:cNvSpPr/>
          <p:nvPr/>
        </p:nvSpPr>
        <p:spPr>
          <a:xfrm>
            <a:off x="3086280" y="243828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"/>
          <p:cNvSpPr/>
          <p:nvPr/>
        </p:nvSpPr>
        <p:spPr>
          <a:xfrm>
            <a:off x="1114560" y="289548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9" name=""/>
          <p:cNvSpPr/>
          <p:nvPr/>
        </p:nvSpPr>
        <p:spPr>
          <a:xfrm>
            <a:off x="2143080" y="289548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0" name=""/>
          <p:cNvSpPr/>
          <p:nvPr/>
        </p:nvSpPr>
        <p:spPr>
          <a:xfrm>
            <a:off x="2657520" y="289548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1" name=""/>
          <p:cNvSpPr/>
          <p:nvPr/>
        </p:nvSpPr>
        <p:spPr>
          <a:xfrm>
            <a:off x="1628640" y="29718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2" name=""/>
          <p:cNvSpPr/>
          <p:nvPr/>
        </p:nvSpPr>
        <p:spPr>
          <a:xfrm>
            <a:off x="3086280" y="289548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"/>
          <p:cNvSpPr/>
          <p:nvPr/>
        </p:nvSpPr>
        <p:spPr>
          <a:xfrm>
            <a:off x="6943680" y="281952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4" name=""/>
          <p:cNvSpPr/>
          <p:nvPr/>
        </p:nvSpPr>
        <p:spPr>
          <a:xfrm>
            <a:off x="7972560" y="281952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5" name=""/>
          <p:cNvSpPr/>
          <p:nvPr/>
        </p:nvSpPr>
        <p:spPr>
          <a:xfrm>
            <a:off x="8229600" y="3352680"/>
            <a:ext cx="171360" cy="457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6" name=""/>
          <p:cNvSpPr/>
          <p:nvPr/>
        </p:nvSpPr>
        <p:spPr>
          <a:xfrm>
            <a:off x="3343320" y="3352680"/>
            <a:ext cx="257040" cy="3812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714680" y="3505320"/>
            <a:ext cx="85680" cy="2286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858000" y="3352680"/>
            <a:ext cx="257040" cy="30492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9" name=""/>
          <p:cNvSpPr/>
          <p:nvPr/>
        </p:nvSpPr>
        <p:spPr>
          <a:xfrm>
            <a:off x="2498760" y="5867280"/>
            <a:ext cx="542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但是，假如這時仍有外來的</a:t>
            </a:r>
            <a:r>
              <a:rPr b="0" lang="en-US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入侵，　　　　　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．</a:t>
            </a:r>
            <a:br>
              <a:rPr sz="2000"/>
            </a:b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那麼就只好一直不斷的隔離、隔離、再隔離！  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PS.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某作家天天呆在家裡自己寫文章可以賺錢了，所以自然不覺得疫情嚴重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0" name=""/>
          <p:cNvSpPr/>
          <p:nvPr/>
        </p:nvSpPr>
        <p:spPr>
          <a:xfrm>
            <a:off x="7219440" y="13716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第一波院內感染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"/>
          <p:cNvSpPr/>
          <p:nvPr/>
        </p:nvSpPr>
        <p:spPr>
          <a:xfrm>
            <a:off x="4186440" y="251460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第二波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擴大隔離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2" name=""/>
          <p:cNvSpPr/>
          <p:nvPr/>
        </p:nvSpPr>
        <p:spPr>
          <a:xfrm>
            <a:off x="514440" y="3733920"/>
            <a:ext cx="9172440" cy="990360"/>
          </a:xfrm>
          <a:prstGeom prst="cube">
            <a:avLst>
              <a:gd name="adj" fmla="val 6250"/>
            </a:avLst>
          </a:prstGeom>
          <a:solidFill>
            <a:srgbClr val="96969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3" name=""/>
          <p:cNvSpPr/>
          <p:nvPr/>
        </p:nvSpPr>
        <p:spPr>
          <a:xfrm>
            <a:off x="990720" y="541008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4" name=""/>
          <p:cNvSpPr/>
          <p:nvPr/>
        </p:nvSpPr>
        <p:spPr>
          <a:xfrm>
            <a:off x="380880" y="4267080"/>
            <a:ext cx="2914920" cy="990720"/>
          </a:xfrm>
          <a:prstGeom prst="wedgeRoundRectCallout">
            <a:avLst>
              <a:gd name="adj1" fmla="val 2560"/>
              <a:gd name="adj2" fmla="val 75800"/>
              <a:gd name="adj3" fmla="val 16667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我是偷渡來賺男人錢的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5" name=""/>
          <p:cNvSpPr/>
          <p:nvPr/>
        </p:nvSpPr>
        <p:spPr>
          <a:xfrm>
            <a:off x="5562720" y="533412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"/>
          <p:cNvSpPr/>
          <p:nvPr/>
        </p:nvSpPr>
        <p:spPr>
          <a:xfrm>
            <a:off x="3429000" y="4343400"/>
            <a:ext cx="4371840" cy="990720"/>
          </a:xfrm>
          <a:prstGeom prst="wedgeRoundRectCallout">
            <a:avLst>
              <a:gd name="adj1" fmla="val 7027"/>
              <a:gd name="adj2" fmla="val 67148"/>
              <a:gd name="adj3" fmla="val 16667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我是刻意繞道非疫區轉機來談生意的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7" name=""/>
          <p:cNvSpPr/>
          <p:nvPr/>
        </p:nvSpPr>
        <p:spPr>
          <a:xfrm>
            <a:off x="3945960" y="373392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直接針對第三、四、五波 擴大隔離嫌疑人員、成功阻擋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SAR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"/>
          <p:cNvSpPr/>
          <p:nvPr/>
        </p:nvSpPr>
        <p:spPr>
          <a:xfrm>
            <a:off x="8839080" y="54864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9" name=""/>
          <p:cNvSpPr/>
          <p:nvPr/>
        </p:nvSpPr>
        <p:spPr>
          <a:xfrm>
            <a:off x="7543800" y="4267080"/>
            <a:ext cx="2914560" cy="990720"/>
          </a:xfrm>
          <a:prstGeom prst="wedgeRoundRectCallout">
            <a:avLst>
              <a:gd name="adj1" fmla="val 11763"/>
              <a:gd name="adj2" fmla="val 79805"/>
              <a:gd name="adj3" fmla="val 16667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我是報導疫情的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43080" y="6510240"/>
            <a:ext cx="9713880" cy="424080"/>
          </a:xfrm>
          <a:custGeom>
            <a:avLst/>
            <a:gdLst/>
            <a:ahLst/>
            <a:rect l="l" t="t" r="r" b="b"/>
            <a:pathLst>
              <a:path w="5439" h="267">
                <a:moveTo>
                  <a:pt x="0" y="190"/>
                </a:moveTo>
                <a:cubicBezTo>
                  <a:pt x="136" y="161"/>
                  <a:pt x="267" y="157"/>
                  <a:pt x="399" y="213"/>
                </a:cubicBezTo>
                <a:cubicBezTo>
                  <a:pt x="578" y="200"/>
                  <a:pt x="788" y="152"/>
                  <a:pt x="967" y="190"/>
                </a:cubicBezTo>
                <a:cubicBezTo>
                  <a:pt x="1024" y="247"/>
                  <a:pt x="1072" y="250"/>
                  <a:pt x="1152" y="267"/>
                </a:cubicBezTo>
                <a:cubicBezTo>
                  <a:pt x="1277" y="259"/>
                  <a:pt x="1403" y="257"/>
                  <a:pt x="1528" y="244"/>
                </a:cubicBezTo>
                <a:cubicBezTo>
                  <a:pt x="1565" y="240"/>
                  <a:pt x="1603" y="203"/>
                  <a:pt x="1635" y="190"/>
                </a:cubicBezTo>
                <a:cubicBezTo>
                  <a:pt x="1732" y="152"/>
                  <a:pt x="1922" y="144"/>
                  <a:pt x="1989" y="136"/>
                </a:cubicBezTo>
                <a:cubicBezTo>
                  <a:pt x="2062" y="105"/>
                  <a:pt x="2134" y="68"/>
                  <a:pt x="2204" y="29"/>
                </a:cubicBezTo>
                <a:cubicBezTo>
                  <a:pt x="2258" y="37"/>
                  <a:pt x="2313" y="37"/>
                  <a:pt x="2365" y="52"/>
                </a:cubicBezTo>
                <a:cubicBezTo>
                  <a:pt x="2377" y="56"/>
                  <a:pt x="2375" y="83"/>
                  <a:pt x="2388" y="83"/>
                </a:cubicBezTo>
                <a:cubicBezTo>
                  <a:pt x="2478" y="85"/>
                  <a:pt x="2567" y="67"/>
                  <a:pt x="2657" y="59"/>
                </a:cubicBezTo>
                <a:cubicBezTo>
                  <a:pt x="2757" y="67"/>
                  <a:pt x="2857" y="70"/>
                  <a:pt x="2956" y="83"/>
                </a:cubicBezTo>
                <a:cubicBezTo>
                  <a:pt x="3008" y="90"/>
                  <a:pt x="3069" y="138"/>
                  <a:pt x="3118" y="159"/>
                </a:cubicBezTo>
                <a:cubicBezTo>
                  <a:pt x="3161" y="151"/>
                  <a:pt x="3205" y="147"/>
                  <a:pt x="3248" y="136"/>
                </a:cubicBezTo>
                <a:cubicBezTo>
                  <a:pt x="3309" y="121"/>
                  <a:pt x="3315" y="90"/>
                  <a:pt x="3387" y="83"/>
                </a:cubicBezTo>
                <a:cubicBezTo>
                  <a:pt x="3555" y="68"/>
                  <a:pt x="3724" y="67"/>
                  <a:pt x="3893" y="59"/>
                </a:cubicBezTo>
                <a:cubicBezTo>
                  <a:pt x="3922" y="43"/>
                  <a:pt x="3945" y="6"/>
                  <a:pt x="3978" y="6"/>
                </a:cubicBezTo>
                <a:cubicBezTo>
                  <a:pt x="4032" y="6"/>
                  <a:pt x="4085" y="25"/>
                  <a:pt x="4139" y="29"/>
                </a:cubicBezTo>
                <a:cubicBezTo>
                  <a:pt x="4290" y="40"/>
                  <a:pt x="4441" y="44"/>
                  <a:pt x="4592" y="52"/>
                </a:cubicBezTo>
                <a:cubicBezTo>
                  <a:pt x="4734" y="104"/>
                  <a:pt x="4879" y="70"/>
                  <a:pt x="5022" y="29"/>
                </a:cubicBezTo>
                <a:cubicBezTo>
                  <a:pt x="5041" y="24"/>
                  <a:pt x="5056" y="7"/>
                  <a:pt x="5076" y="6"/>
                </a:cubicBezTo>
                <a:cubicBezTo>
                  <a:pt x="5165" y="0"/>
                  <a:pt x="5255" y="6"/>
                  <a:pt x="5345" y="6"/>
                </a:cubicBezTo>
                <a:lnTo>
                  <a:pt x="5439" y="23"/>
                </a:lnTo>
              </a:path>
            </a:pathLst>
          </a:custGeom>
          <a:noFill/>
          <a:ln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2603520" y="201600"/>
            <a:ext cx="505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人口越多、意見越多、最高首長都不帶頭戴口罩示範的區域，</a:t>
            </a:r>
            <a:br>
              <a:rPr sz="2000"/>
            </a:b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政府的隔離政策就越難以推動，最後，只好以</a:t>
            </a:r>
            <a:r>
              <a:rPr b="1" lang="zh-TW" sz="2000" spc="-1" strike="noStrike">
                <a:solidFill>
                  <a:srgbClr val="ffff00"/>
                </a:solidFill>
                <a:latin typeface="標楷體"/>
                <a:ea typeface="標楷體"/>
              </a:rPr>
              <a:t>不斷增加的死亡人數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收場…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通常，</a:t>
            </a:r>
            <a:r>
              <a:rPr b="1" lang="zh-TW" sz="2000" spc="-1" strike="noStrike">
                <a:solidFill>
                  <a:srgbClr val="ffff00"/>
                </a:solidFill>
                <a:latin typeface="標楷體"/>
                <a:ea typeface="標楷體"/>
              </a:rPr>
              <a:t>病毒的消滅方法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有以下幾種：</a:t>
            </a:r>
            <a:br>
              <a:rPr sz="2000"/>
            </a:b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被人的抗體殺死了、被藥物或漂白水殺死了、</a:t>
            </a:r>
            <a:br>
              <a:rPr sz="2000"/>
            </a:b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被陽光曬死、乾燥而死、</a:t>
            </a:r>
            <a:br>
              <a:rPr sz="2000"/>
            </a:b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大家都感染後有抗體了不怕再次傳染而讓</a:t>
            </a:r>
            <a:r>
              <a:rPr b="0" lang="en-US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無法生存、</a:t>
            </a:r>
            <a:br>
              <a:rPr sz="2000"/>
            </a:b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或是…該村的人都死光了、失去了可以傳染的人肉了…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2" name=""/>
          <p:cNvSpPr/>
          <p:nvPr/>
        </p:nvSpPr>
        <p:spPr>
          <a:xfrm>
            <a:off x="4468680" y="3429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3" name=""/>
          <p:cNvSpPr/>
          <p:nvPr/>
        </p:nvSpPr>
        <p:spPr>
          <a:xfrm>
            <a:off x="304920" y="4572000"/>
            <a:ext cx="1714320" cy="12952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Arial"/>
                <a:ea typeface="標楷體"/>
              </a:rPr>
              <a:t>^_^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4" name=""/>
          <p:cNvSpPr/>
          <p:nvPr/>
        </p:nvSpPr>
        <p:spPr>
          <a:xfrm>
            <a:off x="2828880" y="2971800"/>
            <a:ext cx="7229520" cy="3505320"/>
          </a:xfrm>
          <a:prstGeom prst="wedgeRoundRectCallout">
            <a:avLst>
              <a:gd name="adj1" fmla="val -66537"/>
              <a:gd name="adj2" fmla="val -3439"/>
              <a:gd name="adj3" fmla="val 16667"/>
            </a:avLst>
          </a:prstGeom>
          <a:solidFill>
            <a:srgbClr val="99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若不是因為有人亂碰野生動物，</a:t>
            </a:r>
            <a:br>
              <a:rPr sz="2000"/>
            </a:b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我也不會從野生動物身上跳到人類身上來嚕！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之前地球派了</a:t>
            </a:r>
            <a:r>
              <a:rPr b="0" lang="en-US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AIDS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來做這個工作，可是效果不好，</a:t>
            </a:r>
            <a:br>
              <a:rPr sz="2000"/>
            </a:b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地球這次只好派我來擔任殺手！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對地球來說，人類才是破壞自然環境的病毒哩！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我要避免名叫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human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病毒傳染到其他星球去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假如我的任務失敗了，下次地球就會派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Chao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來重整地球。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743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 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是什麼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目前已知，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可能為多種可疑的新型變種病毒的交互作用的結果，不同的科學家對於真正的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病毒是衣原體或是大部分專家所認定的冠狀病毒，或是其他病毒型態，仍未能</a:t>
            </a:r>
            <a:r>
              <a:rPr b="1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100%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確認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目前為止，大部分的人類並無免疫能力。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另外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經過多次傳染之後，也可能因為治療時的</a:t>
            </a:r>
            <a:r>
              <a:rPr b="1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抗生素濫用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或是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人體環境的不同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，而進行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變種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，因此，感染後病癒復原的人，仍須避免再次受到感染，以免病情嚴重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聽說過電腦的變種病毒嗎？類似情況囉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57760" y="5334120"/>
            <a:ext cx="1714320" cy="1295280"/>
          </a:xfrm>
          <a:prstGeom prst="sun">
            <a:avLst>
              <a:gd name="adj" fmla="val 25000"/>
            </a:avLst>
          </a:prstGeom>
          <a:solidFill>
            <a:srgbClr val="ff66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^_^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8" name=""/>
          <p:cNvSpPr/>
          <p:nvPr/>
        </p:nvSpPr>
        <p:spPr>
          <a:xfrm>
            <a:off x="5743440" y="5334120"/>
            <a:ext cx="1714680" cy="1295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^_^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"/>
          <p:cNvSpPr/>
          <p:nvPr/>
        </p:nvSpPr>
        <p:spPr>
          <a:xfrm>
            <a:off x="7543800" y="5334120"/>
            <a:ext cx="1714680" cy="1295280"/>
          </a:xfrm>
          <a:prstGeom prst="sun">
            <a:avLst>
              <a:gd name="adj" fmla="val 25000"/>
            </a:avLst>
          </a:prstGeom>
          <a:solidFill>
            <a:srgbClr val="66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^_^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歷史上的瘟疫結局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658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古代歐洲的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黑死病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，因當時無完整的防疫概念，且宗教迷信盛行，因此當地數千萬人死於非命，直到後來採取非常嚴格的全村或全鎮隔離措施，強迫受感染者自生自滅，才漸漸失去了繼續繁殖的機會，最後黑死病逐漸退潮（詳情請上網查詢 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www.wordpedia.com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）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非洲的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伊波拉病毒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，因屬親密接觸的體液或血液感染，因此該疾病僅在非洲當地有相關事件發生；另外與伊波拉病毒同種的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愛滋病毒</a:t>
            </a:r>
            <a:r>
              <a:rPr b="0" lang="en-US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AIDS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，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也是透過血液或體液傳染，但因這類瘟疫無法透過口沫傳染，因此並未真正成為如黑死病般的可怕瘟疫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515520" y="5943600"/>
            <a:ext cx="771480" cy="6858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歷史上的瘟疫結局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65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事實上，根據歷史上記載，口沫傳染的瘟疫，往往讓人類或豬隻、雞隻犧牲相當慘重。不過，有極少數的人類，因其遺傳上具有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特殊</a:t>
            </a:r>
            <a:r>
              <a:rPr b="0" lang="en-US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DNA</a:t>
            </a:r>
            <a:r>
              <a:rPr b="0" lang="zh-TW" sz="2800" spc="-1" strike="noStrike">
                <a:solidFill>
                  <a:srgbClr val="ffff00"/>
                </a:solidFill>
                <a:latin typeface="標楷體"/>
                <a:ea typeface="標楷體"/>
              </a:rPr>
              <a:t>構造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，能讓自身白血球免於受到黑死病、伊波拉病毒與愛滋病毒的侵襲，因此，就算染病也無任何明顯症狀，亦不會致命 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只有極端少數歐洲血統的人有此特異功能的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DNA)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，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所以假如有人染上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卻沒事，不用太驚訝，但不代表他們就沒有傳染性，需等專家確認才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515520" y="5943600"/>
            <a:ext cx="771480" cy="6858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瘟疫的結局預測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71000" y="1143000"/>
            <a:ext cx="9772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由於目前科技發達、對於瘟疫的認知相當正確清楚，因此預測這場瘟疫將會在「隔離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99.99997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的傳染途徑」與「完整妥善的醫療體系」下，獲得控制，最後逐漸消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但若疫苗與解藥無法被發明出來，人類又因為經濟或政治因素而沒有確實隔離，則人類傷亡將相當慘重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猶如以前一個著名的小說：「火星人入侵地球，最後卻因為感染了地球上的細菌，在第七天即病發瘟疫 而讓火星人死光了。」另外有科學家也懷疑遠古代美洲巨獸，也是因為亞洲人入侵帶來特殊病毒而導致死亡，如長毛象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目前最擔心的是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.. 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的發源地中國大陸的社會結構，與歐洲中古時期相差不大，因此若無法以防堵第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20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波的嚴格政策進行目前第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10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波的隔離，恐將有嚴重的人民死傷，別忘了病毒傳染是採取等比級數的方式增加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7160" y="304920"/>
            <a:ext cx="771480" cy="6858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4080" y="-152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的最大挑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99760" y="1066320"/>
            <a:ext cx="8829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也許您會疑惑，為何是「隔離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99.99997%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傳染途徑」呢？為何不是百分之百呢？因為有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0.00003%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隔離是根本做不到的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至於為何是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99.99997%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呢？這個部分牽涉到六個標準差的觀念，此地不再贅述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設想，假如防疫工作能夠做到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99.99997%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防疫效果，卻仍有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0.00003%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人會染上，就某都會區人口數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600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萬計算：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600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萬 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x 0.00003% =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約兩個人會受到感染，全國醫療體系可以全力治療這兩個人。若是人口眾多的國家：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億 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x 0.00003% =30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人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設想，若該都市只達到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99.9%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防疫效果，那麼：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600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萬 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x 0.1% =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約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6000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人會受到感染，目前無任何都市有如此龐大的資源可以治療這麼多的病患。若是某發展中國家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億人口 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x0.1% =100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萬人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不過幸好，這些人不會一次出現，而是會陸續出現，現在還有機會與時間，可以亡羊補牢，徹底達到「隔離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99.99997%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傳染途徑」，且全民都有責任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1360" y="5562720"/>
            <a:ext cx="771480" cy="6858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誤解</a:t>
            </a: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的死亡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所有人對於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死亡率預估都是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錯誤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，因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戰役還沒打完，沒有人知道到底會死多少人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越晚得到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人，將越沒有足夠的資源可以受到妥善的醫療，不管是「傳染率」或「死亡率」都會因此而以等比級數的方式跳升，直到瘟疫全面的失控 或 受到完整隔離控制 為止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任何當初以政府經濟與外交、或是個人面子、企業形象考量的防疫阻力或防疫漏洞，將會是失控的主因，說穿了，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戰爭，</a:t>
            </a:r>
            <a:r>
              <a:rPr b="0" lang="zh-TW" sz="3600" spc="-1" strike="noStrike">
                <a:solidFill>
                  <a:srgbClr val="ff3300"/>
                </a:solidFill>
                <a:latin typeface="標楷體"/>
                <a:ea typeface="標楷體"/>
              </a:rPr>
              <a:t>其實是一場人性的大戰</a:t>
            </a:r>
            <a:r>
              <a:rPr b="0" lang="zh-TW" sz="3600" spc="-1" strike="noStrike">
                <a:solidFill>
                  <a:srgbClr val="ffffcc"/>
                </a:solidFill>
                <a:latin typeface="標楷體"/>
                <a:ea typeface="標楷體"/>
              </a:rPr>
              <a:t>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任何瘟疫只有（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only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）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在 </a:t>
            </a:r>
            <a:r>
              <a:rPr b="1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一開始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就採取全面性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99.99997%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傳染途徑的徹底防疫，才能替國人民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爭取到足夠的時間，活著等到疫苗與解樂的誕生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、或是活著等到世界上所有的瘟疫都受到控制為止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42960" y="990720"/>
            <a:ext cx="771480" cy="6858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"/>
          <p:cNvSpPr/>
          <p:nvPr/>
        </p:nvSpPr>
        <p:spPr>
          <a:xfrm>
            <a:off x="857160" y="380880"/>
            <a:ext cx="771480" cy="6858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71120" y="76320"/>
            <a:ext cx="8744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死亡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1120" y="91404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目前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造成人類死亡的原因，主要是侵蝕肺部，導致呼吸衰竭而死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另外，有時候 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或不當的醫療方式，會造成白血球數量急劇降低，造成人體免疫系統無法發揮作用，這時候，人體內、口腔、腸胃道中，所有已經存在的細菌、病毒、或是體外的各種細菌，便能輕易的進入人體，侵蝕全身，最後侵入血管中引發敗血症而死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通常第一個死因的治療方式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，可以倚靠體外循環機、呼吸器，來延緩病人呼吸衰竭的問題，好爭取時間讓病人可以自行發展免疫能力，最後打敗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恢復健康。（目前政府單位應該儘快與國外搶此設備的資源，以免以後有錢也買不到相關設備，因為連口罩都買不到了。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第二種死因的治療方式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，則是根據病人的體質與身體感染狀況，給予各種抗生素、免疫球蛋白加以治療，但若此時醫師對於病人的掌握度或判斷力不足，將會造成病患的死亡，儘管主因不是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771480" y="76320"/>
            <a:ext cx="8744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如何防止</a:t>
            </a: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？？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9" name=""/>
          <p:cNvSpPr/>
          <p:nvPr/>
        </p:nvSpPr>
        <p:spPr>
          <a:xfrm>
            <a:off x="3439800" y="99072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1.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把您原本毫不在意的想法改變，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RA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其實說穿了，就是自己跟自己的一場人性的戰爭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0" name=""/>
          <p:cNvSpPr/>
          <p:nvPr/>
        </p:nvSpPr>
        <p:spPr>
          <a:xfrm>
            <a:off x="2818080" y="2209680"/>
            <a:ext cx="46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2.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強烈要求您</a:t>
            </a:r>
            <a:r>
              <a:rPr b="0" lang="zh-TW" sz="2400" spc="-1" strike="noStrike">
                <a:solidFill>
                  <a:srgbClr val="99ff33"/>
                </a:solidFill>
                <a:latin typeface="標楷體"/>
                <a:ea typeface="標楷體"/>
              </a:rPr>
              <a:t>身邊有感冒症狀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人，遵守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A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原則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1" name=""/>
          <p:cNvSpPr/>
          <p:nvPr/>
        </p:nvSpPr>
        <p:spPr>
          <a:xfrm>
            <a:off x="2985840" y="3048120"/>
            <a:ext cx="44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3.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強烈要求</a:t>
            </a:r>
            <a:r>
              <a:rPr b="0" lang="zh-TW" sz="2400" spc="-1" strike="noStrike">
                <a:solidFill>
                  <a:srgbClr val="99ff33"/>
                </a:solidFill>
                <a:latin typeface="標楷體"/>
                <a:ea typeface="標楷體"/>
              </a:rPr>
              <a:t>您自己有感冒症狀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時，遵守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A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原則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2" name=""/>
          <p:cNvSpPr/>
          <p:nvPr/>
        </p:nvSpPr>
        <p:spPr>
          <a:xfrm>
            <a:off x="3153240" y="3962520"/>
            <a:ext cx="42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4.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強烈要求自己在</a:t>
            </a:r>
            <a:r>
              <a:rPr b="0" lang="zh-TW" sz="2400" spc="-1" strike="noStrike">
                <a:solidFill>
                  <a:srgbClr val="99ff33"/>
                </a:solidFill>
                <a:latin typeface="標楷體"/>
                <a:ea typeface="標楷體"/>
              </a:rPr>
              <a:t>密閉空間中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，遵守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A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原則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"/>
          <p:cNvSpPr/>
          <p:nvPr/>
        </p:nvSpPr>
        <p:spPr>
          <a:xfrm>
            <a:off x="1219320" y="4724280"/>
            <a:ext cx="810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什麼是</a:t>
            </a:r>
            <a:r>
              <a:rPr b="0" lang="en-US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A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原則呢？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平常上班的人：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洗手～口罩～洗澡～洗臉洗頭～換洗衣物</a:t>
            </a:r>
            <a:br>
              <a:rPr sz="2400"/>
            </a:b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身邊有生病的人：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最好加上太陽眼鏡或護目鏡～</a:t>
            </a:r>
            <a:br>
              <a:rPr sz="2400"/>
            </a:b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有機會接觸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SRAS</a:t>
            </a:r>
            <a:r>
              <a:rPr b="0" lang="zh-TW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病人</a:t>
            </a:r>
            <a:r>
              <a:rPr b="0" lang="en-US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加上防護衣～事後自我隔離…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7040" y="457200"/>
            <a:ext cx="1543320" cy="11430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6696720" y="57164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左上角是一個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病毒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1542960" y="762120"/>
            <a:ext cx="8229600" cy="4495680"/>
          </a:xfrm>
          <a:prstGeom prst="cloudCallout">
            <a:avLst>
              <a:gd name="adj1" fmla="val -42578"/>
              <a:gd name="adj2" fmla="val -50777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哈囉！大家好！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我是廿一世紀新來的病毒寶寶！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請多多愛護！多多指教！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幾百年前我的好朋友“黑死病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”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在歐洲吞了幾千萬人，真是對不起喔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這一次我會儘量少害一點的人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66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傳染途徑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71120" y="13716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來源：咳嗽口沫中含病毒、血液中含病毒、排泄物含病毒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空間：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密閉空間﹙客機艙、中央密閉空調、電梯、交通車﹚，因此在開放空間行走而染上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機率相當低，反之，任何需要說話或密閉空間的地方就需要謹慎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。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氣溫高於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25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度、且濕度很重的地方。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無殺菌效果的水池或飲水。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無道德餐廳將沒啥洗的餐具又弄上桌給下一個客人使用。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行為：親密或性行為（難保不親吻、口沫不互換）、近距離對談、共用茶杯飲料、共用餐具、手部傳播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71480" y="609480"/>
            <a:ext cx="86583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成員：醫院醫療、家庭成員、高密度人口社區、會議對談、長時間辦公室工作、疫區、與來自疫區的不明人士接觸（例如與偷渡賣淫人士嫖妓、酒店親密性消費）。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器官：主要以「眼睛、口、鼻」直接接觸到含有病毒的液體。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7" name=""/>
          <p:cNvSpPr/>
          <p:nvPr/>
        </p:nvSpPr>
        <p:spPr>
          <a:xfrm>
            <a:off x="771480" y="3581280"/>
            <a:ext cx="916632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cc"/>
                </a:solidFill>
                <a:latin typeface="Arial"/>
                <a:ea typeface="標楷體"/>
              </a:rPr>
              <a:t>綜合以上說明，政府與公司機構，應該鼓勵</a:t>
            </a:r>
            <a:br>
              <a:rPr sz="3000"/>
            </a:br>
            <a:r>
              <a:rPr b="0" lang="zh-TW" sz="3000" spc="-1" strike="noStrike">
                <a:solidFill>
                  <a:srgbClr val="ffffcc"/>
                </a:solidFill>
                <a:latin typeface="Arial"/>
                <a:ea typeface="標楷體"/>
              </a:rPr>
              <a:t>員工上班時戴口罩，擔任第一線銷售或業務人員，</a:t>
            </a:r>
            <a:br>
              <a:rPr sz="3000"/>
            </a:br>
            <a:r>
              <a:rPr b="0" lang="zh-TW" sz="3000" spc="-1" strike="noStrike">
                <a:solidFill>
                  <a:srgbClr val="ffffcc"/>
                </a:solidFill>
                <a:latin typeface="Arial"/>
                <a:ea typeface="標楷體"/>
              </a:rPr>
              <a:t>如便利商店員工，也應該戴口罩，</a:t>
            </a:r>
            <a:br>
              <a:rPr sz="3000"/>
            </a:br>
            <a:r>
              <a:rPr b="0" lang="zh-TW" sz="3000" spc="-1" strike="noStrike">
                <a:solidFill>
                  <a:srgbClr val="ffffcc"/>
                </a:solidFill>
                <a:latin typeface="Arial"/>
                <a:ea typeface="標楷體"/>
              </a:rPr>
              <a:t>且避免大聲呼喊叫賣商店產品，可改用擴音器。</a:t>
            </a:r>
            <a:endParaRPr b="0" lang="en-US" sz="30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00"/>
                </a:solidFill>
                <a:latin typeface="Arial"/>
                <a:ea typeface="標楷體"/>
              </a:rPr>
              <a:t>最近戴口罩的業務人員比沒戴口罩的業務人員較受消費者歡迎</a:t>
            </a:r>
            <a:br>
              <a:rPr sz="2400"/>
            </a:br>
            <a:r>
              <a:rPr b="0" lang="zh-TW" sz="2400" spc="-1" strike="noStrike">
                <a:solidFill>
                  <a:srgbClr val="ffff00"/>
                </a:solidFill>
                <a:latin typeface="Arial"/>
                <a:ea typeface="標楷體"/>
              </a:rPr>
              <a:t>也是一種尊重消費者的態度。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-1905120" y="-1828800"/>
            <a:ext cx="5791320" cy="5791320"/>
          </a:xfrm>
          <a:prstGeom prst="ellipse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9" name=""/>
          <p:cNvSpPr/>
          <p:nvPr/>
        </p:nvSpPr>
        <p:spPr>
          <a:xfrm>
            <a:off x="2687400" y="1295280"/>
            <a:ext cx="5118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另外，主管應嚴格規定生病或過敏性咳嗽的人員戴口罩，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會比要求 健康的人 戴口罩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更有效果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只是社會學有研究，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越是 有重大傳染病發生的時刻，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生病的人越是會拒絕戴口罩，以掩飾其生病的事實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（雖然並非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總之這是一場人性的戰爭），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因此工作廠所全面戴口罩，雖然無法保護健康的人吸到病毒，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卻可以有效預防病患將病毒散佈到空氣中。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而帶上口罩，也可以讓員工在瘟疫高峰期間內，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獲得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心理上的安全感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增進工作效率與維持原有的人際互動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個人  一般性防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14080" y="1143000"/>
            <a:ext cx="9343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隨著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新聞的發展，隨時更新防疫觀念，針對所有傳染途徑進行圍阻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減少與作息不正常、來路不明的人士互動、親密；減少與未受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14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天隔離之疫區人士頻繁接觸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減少在密閉空間停留、避免在密閉空間中大口呼吸、跳舞運動。如無法避免停留在密閉空間，應儘量保持心情平靜，減少呼吸量與交談、晃動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口罩攜帶時，仍應保持身心平靜，避免激烈呼吸，降低口罩功效；攜帶太陽眼鏡可預防直接的飛沫接觸眼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改善居家通風、改善工作環境通風、常洗手並擦乾，保持工作環境或出入大門開啟，減少以手開門機會，減少打醫療單位與機場之公用電話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任何刺激、提高個人免疫力的偏方，並無法讓身體自動產生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抗體，應補充健全的高蛋白質與維生素，以利免疫力的再造，維持身體健康、減少加班與壓力則可避免身體消耗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個人  系統性防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56680" y="1066680"/>
            <a:ext cx="9772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首先列出您每天會接觸的人與環境，包含可能的陌生人或各種環境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列出處於密閉環境的時間與地點，並衡量該地點是否有妥善之隔離或檢查措施，例如進出是否需要量體溫、攜帶口罩等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儘量避免出入高風險地區，例如醫療院所，如有必要，請於返家後儘速丟棄口罩、脫去衣物與全身盥洗後，再與家人接觸對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主動關心每天所接觸的人與環境，如發現異常，應儘速協助對方採取防疫措施，相對的也就能保護自己，例如某朋友經常生活在高危險環境中且不戴口罩與眼鏡，則應視情況嚴重與否勸告改善之，否則考慮保持距離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協助身邊的人、上級、下屬或彼此親近的陌生人，補充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知識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並採取積極的防禦措施，將可有效降低傳染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替您的家人與朋友，多帶一個口罩或太陽眼鏡吧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711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公司如何防範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71120" y="12952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公司行號可以於防疫期間，採取門禁與量體溫措施、訪客憑身分證確認是否為外籍人士、憑護照日期確認是否已過隔離期間、放寬病假審核措施、鼓勵發燒兼咳嗽之同仁主動休假自行隔離至症狀解除、強化人員責任備援、降低中央空調氣溫並加強換氣、會議室改裝獨立空調、協助員工慎選能確實防疫之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N95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等級口罩、分散員工工作職責與環境、鼓勵居家上班責任制、建立人員與系統備援機制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禁止任何疫區的商業旅行與未受隔離的人員往來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主動調查員工作息、分析員工是否有密閉環境傳染的生活作息或危險因子。例如經常搭密閉公車與飛機往返之員工、或於密閉空間從事團體活動之員工，並要求搭乘計程車之員工全程開窗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政府如何防範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? 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商業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56800" y="12193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並非所有產業均會受到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的影響，相對的許多遠端視訊會議產業、在家娛樂產業、戶外開放空間產業、醫藥健身或免疫產業將因此受惠，因此，政府可於此時協助資訊產業、食品業與醫療產業儘速發展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若能透過完整的疫區人士隔離措施，以及完善防疫之轉口貿易計畫，透過各種防疫認證機制，協助大陸進行轉口貿易，將可以搭天時地利之便，持續發揮「營運中心」效益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預期部分密閉空間之個人娛樂或交通事業，將會因此而受到壓抑，政府應當協助產業解決資金與營運危機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都市如何防範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? 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防疫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56800" y="11430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演習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：陸續推展各種醫療院所管制演習，減少醫院封院糾紛，增強各項防疫功效，惟有不斷的演習，才能解決恐慌與暴動問題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準備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：由於目前防疫措施無法達到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99.9%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，因此政府應事先針對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60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人、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600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人、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6000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人、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60000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病患人數之各階段醫療辦法與資源，進行統籌分配與管理計畫。當局有必要立即進行資源分配，並與國外搶奪昂貴量少之醫療設備資源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訓練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：立即且全面性的進行醫療人員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專業訓練，避免「非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因素」所造成的醫療死亡率攀升，例如黴菌或葡萄球菌所引發之敗血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政府如何防範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? 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教育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56800" y="11430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統一的發言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：政府應學習美國國防部面對美伊戰爭時的「統一發言」方式，提供完整、唯一且正確的資料供社會大眾參考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實事求是的媒體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：大眾應該唾棄任何以「傳說」或「謠傳」報導的媒體新聞或記者，並針對無證據證明之各種媒體報導，給予緊急且嚴厲之處分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知識的推展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：防疫知識不能僅靠大眾傳播的方式，必須透過戶政通路，確定所有人均能了解各種自身防疫技巧，因為只要一個人的無知所造成的傳染，即可被傳媒作為瓦解全國防疫信心的工具，且透過地毯式的防疫工作，方能提高全民防疫觀念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政府如何防範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? 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混亂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56800" y="13716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暴動：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政府應針對暴動或可能急劇升高之疫情擴大問題，事前提供完善的因應計畫，供全民參考，以降低全民不安，並警告各種投機人士可能進行之各種不法情事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整頓：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政府應立即著手擬定「疫情控制中」、「疫情解除」、「疫情階段性擴大」之各項社會與經濟秩序整頓方案，並事先提供全民參考，以協助人民有方向可依循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00240" y="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3247560" y="502920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一但感染病毒的人</a:t>
            </a:r>
            <a:r>
              <a:rPr b="0" lang="zh-TW" sz="2400" spc="-1" strike="noStrike" u="sng">
                <a:solidFill>
                  <a:srgbClr val="ffffcc"/>
                </a:solidFill>
                <a:uFillTx/>
                <a:latin typeface="Times New Roman"/>
                <a:ea typeface="標楷體"/>
              </a:rPr>
              <a:t>大聲說話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 u="sng">
                <a:solidFill>
                  <a:srgbClr val="ffffcc"/>
                </a:solidFill>
                <a:uFillTx/>
                <a:latin typeface="Times New Roman"/>
                <a:ea typeface="標楷體"/>
              </a:rPr>
              <a:t>接吻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 u="sng">
                <a:solidFill>
                  <a:srgbClr val="ffffcc"/>
                </a:solidFill>
                <a:uFillTx/>
                <a:latin typeface="Times New Roman"/>
                <a:ea typeface="標楷體"/>
              </a:rPr>
              <a:t>咳嗽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或</a:t>
            </a:r>
            <a:r>
              <a:rPr b="0" lang="zh-TW" sz="2400" spc="-1" strike="noStrike" u="sng">
                <a:solidFill>
                  <a:srgbClr val="ffffcc"/>
                </a:solidFill>
                <a:uFillTx/>
                <a:latin typeface="Times New Roman"/>
                <a:ea typeface="標楷體"/>
              </a:rPr>
              <a:t>打噴嚏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時，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便會把含有病毒的微小唾液或痰散播出去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，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裡頭通常至少有數十隻病毒，最多可到一億隻。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514440" y="6094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1800360" y="5335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171360" y="12952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1114560" y="114300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600120" y="19051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1714680" y="19810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200240" y="24382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6094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1114560" y="114300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600120" y="19051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1200240" y="24382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7715160" y="26668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8315280" y="320040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7286760" y="32767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7972560" y="35812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1522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857160" y="7621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1457280" y="12952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857160" y="7621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1457280" y="12952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428760" y="9907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8380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857160" y="160020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1457280" y="21337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8380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857160" y="160020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1457280" y="21337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1714680" y="9907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714680" y="9907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4629240" y="380880"/>
            <a:ext cx="4629240" cy="1828800"/>
          </a:xfrm>
          <a:prstGeom prst="wedgeRoundRectCallout">
            <a:avLst>
              <a:gd name="adj1" fmla="val -65277"/>
              <a:gd name="adj2" fmla="val 123351"/>
              <a:gd name="adj3" fmla="val 16667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這些是我的好朋友！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感謝人類願意收留我們！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“乾溫唷！”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3343320" y="35053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病患如何面對？</a:t>
            </a:r>
            <a:r>
              <a:rPr b="0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居家隔離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71120" y="17524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一但您收到隔離通知時，請務必透過親友或相關衛生單位的協助，在自家隔離，並且每日替換口罩，並且隨時保持環境清潔，必要時將所有空調設備之過濾網換新，或獨自於房間中休息，以避免家族成員受到交互感染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請同時保持心情愉快，可上網或電話與友人閒聊，或閱讀、或聆聽音樂，以愉快或賺到的心情安然渡過隔離期間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若您最近實在沒有與任何咳嗽或疫區人士、醫療院所、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病患近距離接觸過，您實在無須太過擔心，如有這方面的接觸，請立即將該人士與地點報給衛生單位知道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請於此時儘量補充充分且衛生之高蛋白與各種營養，早睡早起，做做伸展操、但絕對避免激烈運動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711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病患如何面對？</a:t>
            </a:r>
            <a:r>
              <a:rPr b="0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可疑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71120" y="13716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一但您是可疑病例時，通常您已經得到與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持續高燒、咳嗽、甚至呼吸不順、四肢酸軟等症候，但您的肺部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光片仍正常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若您最近實在沒有與任何咳嗽或疫區人士、醫療院所、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病患近距離接觸過，您實在無須太過擔心，如有這方面的接觸，請立即將該人士與地點報給衛生單位知道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如您已經在院內接受隔離，請隨時攜帶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N95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等級口罩，如果院內非獨立空調，請一並攜帶蛙鏡或護目鏡，以避免眼部受到院內交叉感染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請於此時儘量補充充分且衛生之高蛋白如雞湯與各種營養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病患如何面對？</a:t>
            </a:r>
            <a:r>
              <a:rPr b="0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可能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71120" y="16765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一但您是可能病例時，通常您已經得到與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持續高燒、咳嗽、甚至呼吸不順、四肢酸軟等症候，且您的肺部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光片已經出現廣泛性的斑點（</a:t>
            </a:r>
            <a:r>
              <a:rPr b="0" lang="zh-TW" sz="2800" spc="-1" strike="noStrike">
                <a:solidFill>
                  <a:srgbClr val="ffffcc"/>
                </a:solidFill>
                <a:latin typeface="Arial Narrow"/>
                <a:ea typeface="標楷體"/>
              </a:rPr>
              <a:t>胸部Ⅹ光呈間質性浸潤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）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若您最近實在沒有與任何咳嗽或疫區人士、醫療院所、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病患近距離接觸過，您可能只是相關肺炎疾病，故實在無須太過擔心，如有這方面的接觸，請立即將該人士與地點報給衛生單位知道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如您已經在院內接受隔離，請隨時攜帶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N95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等級口罩，如果院內非獨立空調，請一並攜帶眼罩，以避免受到院內交叉感染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請於此時儘量補充充分且衛生之高蛋白與各種營養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711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病患如何面對？</a:t>
            </a:r>
            <a:r>
              <a:rPr b="0" lang="zh-TW" sz="4400" spc="-1" strike="noStrike">
                <a:solidFill>
                  <a:srgbClr val="ff3300"/>
                </a:solidFill>
                <a:latin typeface="標楷體"/>
                <a:ea typeface="標楷體"/>
              </a:rPr>
              <a:t>確定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71120" y="12952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若您是確定病例時，通常這時候您的肺部或唾液、血液中，已經檢查到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病毒。不過某些心態不正確的醫師會有某些考量，而不一定會老實跟您說，甚至希望您去別家醫院看病。因此最好所有生病的人都儘快戴口罩，以免傳染給您所愛的家人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由於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患者並非只有跟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病毒作戰，往往還需要跟其他黴菌、細菌、病毒、個人慢性疾病同時戰鬥（這也是為何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容易致命的原因），因此，通常這時醫師會根據您的症狀輕重、感染狀況，給予各種手段的治療，此時您的求生意志將非常重要，如有任何不舒服，需儘速告知醫師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與其走到這一步，不如事先防範，企業主有義務照顧幫自己辛苦賺錢的員工、丈夫有義務照顧家裡的妻兒老小，唯有共同防疫，才能使群體倖免於難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4308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病患之家屬如何面對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14080" y="12193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除了支持還是支持！讓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病患無牽無掛，努力面對病魔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當然病患家屬之自家隔離仍是必須，配合政府隔離規定，妥善照料自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後悔或怨恨已經於事無補，讓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的經驗流傳下去，方能協助接下來的所有民眾共同建構防疫機制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N95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加上護目鏡的自我隔離仍是必須，並且避免碰觸病患衣物或病患接觸過的器具設備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11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自立自強！</a:t>
            </a:r>
            <a:br>
              <a:rPr sz="4400"/>
            </a:b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自行建構</a:t>
            </a:r>
            <a:r>
              <a:rPr b="0" lang="en-US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防疫團體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8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只有一句話，協助您身邊的所有人做好防疫工作，就是替您自己建構一道最安全的防疫牆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通常這時候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，您會發現只有最勇敢最珍惜生命的人，才會戴口罩，而通常這種人也是最不容易感染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人；怕戴口罩會被笑的人，也是最先後悔的人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敦促團體領導者依據前面所說的各種防疫辦法，進行團體的防疫工作，僅有量體溫是不行的，還需要有各種配套與健康檢查措施，並隨時關心身邊周遭人的健康狀況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別讓防疫工作由別人掌控！自己的防疫要自己確實來作！ 只要讓前面所談到的各種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感染機會降低到零，就算沒有口罩也能安心自在！注意，要確定真的是零喔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330560" y="13716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買不到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N95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口罩該怎麼辦？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"/>
          <p:cNvSpPr/>
          <p:nvPr/>
        </p:nvSpPr>
        <p:spPr>
          <a:xfrm rot="4056600">
            <a:off x="2499840" y="4424040"/>
            <a:ext cx="914400" cy="1971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8" name=""/>
          <p:cNvSpPr/>
          <p:nvPr/>
        </p:nvSpPr>
        <p:spPr>
          <a:xfrm>
            <a:off x="2828880" y="5334120"/>
            <a:ext cx="3430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9" name=""/>
          <p:cNvSpPr/>
          <p:nvPr/>
        </p:nvSpPr>
        <p:spPr>
          <a:xfrm>
            <a:off x="5400720" y="1905120"/>
            <a:ext cx="4200480" cy="396216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657760" y="3581280"/>
            <a:ext cx="685800" cy="4572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055400" y="83808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那就讓自己呆在陽光充份、開放性空調、獨立空調 或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沒人會咳嗽、大聲說話的地方吧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2" name=""/>
          <p:cNvSpPr/>
          <p:nvPr/>
        </p:nvSpPr>
        <p:spPr>
          <a:xfrm rot="4056600">
            <a:off x="2499840" y="4424040"/>
            <a:ext cx="914400" cy="1971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3" name=""/>
          <p:cNvSpPr/>
          <p:nvPr/>
        </p:nvSpPr>
        <p:spPr>
          <a:xfrm>
            <a:off x="2828880" y="5334120"/>
            <a:ext cx="3430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4" name=""/>
          <p:cNvSpPr/>
          <p:nvPr/>
        </p:nvSpPr>
        <p:spPr>
          <a:xfrm>
            <a:off x="5400720" y="1905120"/>
            <a:ext cx="4200480" cy="396216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657760" y="3581280"/>
            <a:ext cx="685800" cy="4572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602000" y="32004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假如都沒辦法做到呢？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7" name=""/>
          <p:cNvSpPr/>
          <p:nvPr/>
        </p:nvSpPr>
        <p:spPr>
          <a:xfrm rot="3333600">
            <a:off x="2499840" y="4424040"/>
            <a:ext cx="914400" cy="1971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2832840" y="5297400"/>
            <a:ext cx="335160" cy="748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9" name=""/>
          <p:cNvSpPr/>
          <p:nvPr/>
        </p:nvSpPr>
        <p:spPr>
          <a:xfrm>
            <a:off x="5400720" y="1905120"/>
            <a:ext cx="4200480" cy="396216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657760" y="3581280"/>
            <a:ext cx="685800" cy="4572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7543800" y="2438280"/>
            <a:ext cx="76320" cy="129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772400" y="2438280"/>
            <a:ext cx="76320" cy="129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8001000" y="2438280"/>
            <a:ext cx="76320" cy="129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963960" y="457200"/>
            <a:ext cx="38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每天吃兩碗黃豆燉雞！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同時吞一顆綜合維他命吧！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聽說這樣可以讓身體有足夠的營養抵抗疾病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5" name=""/>
          <p:cNvSpPr/>
          <p:nvPr/>
        </p:nvSpPr>
        <p:spPr>
          <a:xfrm rot="3333600">
            <a:off x="2499840" y="4424040"/>
            <a:ext cx="914400" cy="1971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832840" y="5297400"/>
            <a:ext cx="335160" cy="748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7" name=""/>
          <p:cNvSpPr/>
          <p:nvPr/>
        </p:nvSpPr>
        <p:spPr>
          <a:xfrm>
            <a:off x="5400720" y="1905120"/>
            <a:ext cx="4200480" cy="396216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5657760" y="3581280"/>
            <a:ext cx="685800" cy="4572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0"/>
            <a:ext cx="3943440" cy="65530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750480" y="571500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不過大部分的病毒，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會隨著水珠的乾燥 或 太陽光 照射漸漸死亡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5915160" y="23623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6515280" y="2895480"/>
            <a:ext cx="685800" cy="609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297180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2767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4440" y="4876920"/>
            <a:ext cx="4456800" cy="837720"/>
            <a:chOff x="514440" y="4876920"/>
            <a:chExt cx="4456800" cy="837720"/>
          </a:xfrm>
        </p:grpSpPr>
        <p:sp>
          <p:nvSpPr>
            <p:cNvPr id="132" name=""/>
            <p:cNvSpPr/>
            <p:nvPr/>
          </p:nvSpPr>
          <p:spPr>
            <a:xfrm>
              <a:off x="2495160" y="487692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4680" y="504432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1120" y="502344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4440" y="523296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29920" y="5191200"/>
              <a:ext cx="132084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39560" y="5400720"/>
              <a:ext cx="132084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85520" y="542160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95160" y="554724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74680" y="504432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9920" y="5191200"/>
              <a:ext cx="132084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39560" y="5400720"/>
              <a:ext cx="132084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95160" y="554724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09440" y="491868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34560" y="5086440"/>
              <a:ext cx="132084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0520" y="523296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34560" y="5086440"/>
              <a:ext cx="132084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90520" y="523296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09440" y="514908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24920" y="5107320"/>
              <a:ext cx="132084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34560" y="5316840"/>
              <a:ext cx="132084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90520" y="546372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4920" y="5107320"/>
              <a:ext cx="132084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34560" y="5316840"/>
              <a:ext cx="132084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90520" y="546372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85520" y="514908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85520" y="5149080"/>
              <a:ext cx="1320120" cy="16740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315040" y="1066680"/>
            <a:ext cx="4629240" cy="914400"/>
          </a:xfrm>
          <a:prstGeom prst="wedgeRoundRectCallout">
            <a:avLst>
              <a:gd name="adj1" fmla="val 31620"/>
              <a:gd name="adj2" fmla="val 201564"/>
              <a:gd name="adj3" fmla="val 16667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趕快跑喔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8744040" y="35053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886280" y="2743200"/>
            <a:ext cx="1028880" cy="0"/>
          </a:xfrm>
          <a:prstGeom prst="line">
            <a:avLst/>
          </a:prstGeom>
          <a:ln w="19080">
            <a:solidFill>
              <a:srgbClr val="ff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71840" y="3276720"/>
            <a:ext cx="1028880" cy="0"/>
          </a:xfrm>
          <a:prstGeom prst="line">
            <a:avLst/>
          </a:prstGeom>
          <a:ln w="19080">
            <a:solidFill>
              <a:srgbClr val="ff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057640" y="3657600"/>
            <a:ext cx="1028880" cy="0"/>
          </a:xfrm>
          <a:prstGeom prst="line">
            <a:avLst/>
          </a:prstGeom>
          <a:ln w="19080">
            <a:solidFill>
              <a:srgbClr val="ff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543800" y="3809880"/>
            <a:ext cx="1028880" cy="0"/>
          </a:xfrm>
          <a:prstGeom prst="line">
            <a:avLst/>
          </a:prstGeom>
          <a:ln w="19080">
            <a:solidFill>
              <a:srgbClr val="ff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525680" y="40384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可是我煮的不好吃耶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0" name=""/>
          <p:cNvSpPr/>
          <p:nvPr/>
        </p:nvSpPr>
        <p:spPr>
          <a:xfrm rot="5509800">
            <a:off x="2499840" y="4424040"/>
            <a:ext cx="914400" cy="1971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1" name=""/>
          <p:cNvSpPr/>
          <p:nvPr/>
        </p:nvSpPr>
        <p:spPr>
          <a:xfrm>
            <a:off x="2842920" y="5266800"/>
            <a:ext cx="315000" cy="1360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2" name=""/>
          <p:cNvSpPr/>
          <p:nvPr/>
        </p:nvSpPr>
        <p:spPr>
          <a:xfrm>
            <a:off x="5400720" y="1905120"/>
            <a:ext cx="4200480" cy="396216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657760" y="3581280"/>
            <a:ext cx="685800" cy="4572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7543800" y="2438280"/>
            <a:ext cx="76320" cy="129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772400" y="2438280"/>
            <a:ext cx="76320" cy="129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8001000" y="2438280"/>
            <a:ext cx="76320" cy="129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8229600" y="2514600"/>
            <a:ext cx="76320" cy="1295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8458200" y="2514600"/>
            <a:ext cx="76320" cy="1295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8686800" y="2514600"/>
            <a:ext cx="76320" cy="1295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4223160" y="9907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黃豆燉雞湯時，放兩包沖泡式薑母茶包，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再慢慢調一點鹽巴就好吃啦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"/>
          <p:cNvSpPr/>
          <p:nvPr/>
        </p:nvSpPr>
        <p:spPr>
          <a:xfrm rot="3333600">
            <a:off x="2499840" y="4424040"/>
            <a:ext cx="914400" cy="1971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832840" y="5297400"/>
            <a:ext cx="335160" cy="748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3" name=""/>
          <p:cNvSpPr/>
          <p:nvPr/>
        </p:nvSpPr>
        <p:spPr>
          <a:xfrm>
            <a:off x="5400720" y="1905120"/>
            <a:ext cx="4200480" cy="396216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657760" y="3581280"/>
            <a:ext cx="685800" cy="4572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 rot="5509800">
            <a:off x="2499840" y="4424040"/>
            <a:ext cx="914400" cy="1971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6" name=""/>
          <p:cNvSpPr/>
          <p:nvPr/>
        </p:nvSpPr>
        <p:spPr>
          <a:xfrm>
            <a:off x="2842920" y="5266800"/>
            <a:ext cx="315000" cy="1360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7" name=""/>
          <p:cNvSpPr/>
          <p:nvPr/>
        </p:nvSpPr>
        <p:spPr>
          <a:xfrm>
            <a:off x="6086520" y="762120"/>
            <a:ext cx="4200480" cy="396216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324480" y="2362320"/>
            <a:ext cx="685800" cy="4572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7772400" y="838080"/>
            <a:ext cx="76320" cy="129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8001000" y="838080"/>
            <a:ext cx="76320" cy="129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8229600" y="838080"/>
            <a:ext cx="76320" cy="129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8458200" y="914400"/>
            <a:ext cx="76320" cy="1295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8686800" y="914400"/>
            <a:ext cx="76320" cy="1295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8915400" y="914400"/>
            <a:ext cx="76320" cy="1295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5715000"/>
            <a:ext cx="838080" cy="762120"/>
          </a:xfrm>
          <a:prstGeom prst="wedgeEllipseCallout">
            <a:avLst>
              <a:gd name="adj1" fmla="val -61930"/>
              <a:gd name="adj2" fmla="val -5708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咳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6" name=""/>
          <p:cNvSpPr/>
          <p:nvPr/>
        </p:nvSpPr>
        <p:spPr>
          <a:xfrm>
            <a:off x="5029200" y="5791320"/>
            <a:ext cx="838080" cy="761760"/>
          </a:xfrm>
          <a:prstGeom prst="wedgeEllipseCallout">
            <a:avLst>
              <a:gd name="adj1" fmla="val -61930"/>
              <a:gd name="adj2" fmla="val -57083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咳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2819520"/>
            <a:ext cx="1219320" cy="9144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8" name=""/>
          <p:cNvSpPr/>
          <p:nvPr/>
        </p:nvSpPr>
        <p:spPr>
          <a:xfrm rot="19514400">
            <a:off x="6461280" y="3166560"/>
            <a:ext cx="1447560" cy="1067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9" name=""/>
          <p:cNvSpPr/>
          <p:nvPr/>
        </p:nvSpPr>
        <p:spPr>
          <a:xfrm>
            <a:off x="1647720" y="4038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其實，我已經發燒三天了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4056600">
            <a:off x="2499840" y="4424040"/>
            <a:ext cx="914400" cy="1971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"/>
          <p:cNvSpPr/>
          <p:nvPr/>
        </p:nvSpPr>
        <p:spPr>
          <a:xfrm>
            <a:off x="2828880" y="5334120"/>
            <a:ext cx="3430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3" name=""/>
          <p:cNvSpPr/>
          <p:nvPr/>
        </p:nvSpPr>
        <p:spPr>
          <a:xfrm>
            <a:off x="5257800" y="2209680"/>
            <a:ext cx="4200480" cy="396252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5495760" y="3809880"/>
            <a:ext cx="685800" cy="4572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5" name=""/>
          <p:cNvSpPr/>
          <p:nvPr/>
        </p:nvSpPr>
        <p:spPr>
          <a:xfrm>
            <a:off x="6410160" y="4267080"/>
            <a:ext cx="1219320" cy="9144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"/>
          <p:cNvSpPr/>
          <p:nvPr/>
        </p:nvSpPr>
        <p:spPr>
          <a:xfrm rot="19514400">
            <a:off x="5632200" y="4614480"/>
            <a:ext cx="1447560" cy="1066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7" name=""/>
          <p:cNvSpPr/>
          <p:nvPr/>
        </p:nvSpPr>
        <p:spPr>
          <a:xfrm>
            <a:off x="609480" y="380880"/>
            <a:ext cx="749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警覺性要高一點喔！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而且記得好好照顧自己、保護自己喔！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因為只有如此…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你才有能力去照顧身邊愛你的人、還有你所愛的人喔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8" name=""/>
          <p:cNvSpPr/>
          <p:nvPr/>
        </p:nvSpPr>
        <p:spPr>
          <a:xfrm>
            <a:off x="228600" y="40384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對不起～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可是我害怕看醫生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4056600">
            <a:off x="2499840" y="4424040"/>
            <a:ext cx="914400" cy="1971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"/>
          <p:cNvSpPr/>
          <p:nvPr/>
        </p:nvSpPr>
        <p:spPr>
          <a:xfrm>
            <a:off x="2828880" y="5334120"/>
            <a:ext cx="3430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2" name=""/>
          <p:cNvSpPr/>
          <p:nvPr/>
        </p:nvSpPr>
        <p:spPr>
          <a:xfrm>
            <a:off x="5257800" y="2209680"/>
            <a:ext cx="4200480" cy="396252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495760" y="3809880"/>
            <a:ext cx="685800" cy="4572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4" name=""/>
          <p:cNvSpPr/>
          <p:nvPr/>
        </p:nvSpPr>
        <p:spPr>
          <a:xfrm>
            <a:off x="6410160" y="4267080"/>
            <a:ext cx="1219320" cy="9144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"/>
          <p:cNvSpPr/>
          <p:nvPr/>
        </p:nvSpPr>
        <p:spPr>
          <a:xfrm rot="19514400">
            <a:off x="5632200" y="4614480"/>
            <a:ext cx="1447560" cy="1066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6" name=""/>
          <p:cNvSpPr/>
          <p:nvPr/>
        </p:nvSpPr>
        <p:spPr>
          <a:xfrm>
            <a:off x="2362320" y="1143000"/>
            <a:ext cx="74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我送你去看醫生吧！！我這裡還有多的口罩給你用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35053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好！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不過你在醫院門口等就好了，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我自己進去就好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361960" y="837720"/>
            <a:ext cx="5229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歡迎討論，本文章日期</a:t>
            </a: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2003</a:t>
            </a: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年</a:t>
            </a: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5</a:t>
            </a: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月</a:t>
            </a: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1</a:t>
            </a: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日</a:t>
            </a:r>
            <a:br>
              <a:rPr sz="2000"/>
            </a:b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下次有重大</a:t>
            </a:r>
            <a:r>
              <a:rPr b="0" lang="en-US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疫情變動時再更新資料。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28800" y="5181480"/>
            <a:ext cx="6524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把</a:t>
            </a:r>
            <a:r>
              <a:rPr b="0" lang="en-US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SARS</a:t>
            </a: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知識傳遞下去，</a:t>
            </a:r>
            <a:br>
              <a:rPr sz="2000"/>
            </a:b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讓我們一起共建 防疫團體！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加油！加油！…</a:t>
            </a: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.  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1" name=""/>
          <p:cNvSpPr/>
          <p:nvPr/>
        </p:nvSpPr>
        <p:spPr>
          <a:xfrm>
            <a:off x="8967960" y="632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66"/>
                </a:solidFill>
                <a:latin typeface="標楷體"/>
                <a:ea typeface="標楷體"/>
              </a:rPr>
              <a:t>深藍海豚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2" name=""/>
          <p:cNvSpPr/>
          <p:nvPr/>
        </p:nvSpPr>
        <p:spPr>
          <a:xfrm>
            <a:off x="3657600" y="2362320"/>
            <a:ext cx="2743200" cy="2666880"/>
          </a:xfrm>
          <a:prstGeom prst="plus">
            <a:avLst>
              <a:gd name="adj" fmla="val 3273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5400720" y="2362320"/>
            <a:ext cx="4200480" cy="396216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657760" y="4343040"/>
            <a:ext cx="1047960" cy="1522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"/>
          <p:cNvSpPr/>
          <p:nvPr/>
        </p:nvSpPr>
        <p:spPr>
          <a:xfrm rot="4056600">
            <a:off x="2499840" y="4424040"/>
            <a:ext cx="914400" cy="1971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2743200" y="5181480"/>
            <a:ext cx="276120" cy="15264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8" name=""/>
          <p:cNvSpPr/>
          <p:nvPr/>
        </p:nvSpPr>
        <p:spPr>
          <a:xfrm>
            <a:off x="6158520" y="1143000"/>
            <a:ext cx="31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那就好！就算是普通感冒，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也不該傳染給別人，別擔心太多喔！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我們回家吧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9" name=""/>
          <p:cNvSpPr/>
          <p:nvPr/>
        </p:nvSpPr>
        <p:spPr>
          <a:xfrm>
            <a:off x="1193400" y="990720"/>
            <a:ext cx="252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醫生說我輕微發燒而已，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應該是普通感冒而已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要我先多休息、天天戴口罩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別出去外頭到處逛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兩天後再去重拍肺部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X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光片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確定一下就好了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317320" y="5473800"/>
            <a:ext cx="690840" cy="366840"/>
            <a:chOff x="2317320" y="5473800"/>
            <a:chExt cx="690840" cy="366840"/>
          </a:xfrm>
        </p:grpSpPr>
        <p:sp>
          <p:nvSpPr>
            <p:cNvPr id="751" name=""/>
            <p:cNvSpPr/>
            <p:nvPr/>
          </p:nvSpPr>
          <p:spPr>
            <a:xfrm flipH="1" rot="20050800">
              <a:off x="2346840" y="5544720"/>
              <a:ext cx="378000" cy="2246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 rot="535800">
              <a:off x="2541240" y="5530320"/>
              <a:ext cx="448560" cy="262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6645240" y="4529160"/>
            <a:ext cx="1219320" cy="9144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4" name=""/>
          <p:cNvSpPr/>
          <p:nvPr/>
        </p:nvSpPr>
        <p:spPr>
          <a:xfrm rot="19514400">
            <a:off x="5866920" y="4876920"/>
            <a:ext cx="1447920" cy="1066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7162920" y="0"/>
            <a:ext cx="3124080" cy="22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90920" y="76032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The End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？ 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No! to be continue…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8" name=""/>
          <p:cNvSpPr/>
          <p:nvPr/>
        </p:nvSpPr>
        <p:spPr>
          <a:xfrm>
            <a:off x="3819600" y="51055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7162920" y="0"/>
            <a:ext cx="3124080" cy="22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90920" y="76032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The End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？  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No!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to be continue…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2" name=""/>
          <p:cNvSpPr/>
          <p:nvPr/>
        </p:nvSpPr>
        <p:spPr>
          <a:xfrm>
            <a:off x="3819600" y="51055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7162920" y="0"/>
            <a:ext cx="3124080" cy="22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590920" y="760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… To Be Continue…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"/>
          <p:cNvSpPr/>
          <p:nvPr/>
        </p:nvSpPr>
        <p:spPr>
          <a:xfrm>
            <a:off x="5105520" y="2362320"/>
            <a:ext cx="4628880" cy="1447560"/>
          </a:xfrm>
          <a:prstGeom prst="wedgeRoundRectCallout">
            <a:avLst>
              <a:gd name="adj1" fmla="val -51578"/>
              <a:gd name="adj2" fmla="val 107236"/>
              <a:gd name="adj3" fmla="val 16667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您要不要收留我啊？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“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乾溫唷！”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7" name=""/>
          <p:cNvSpPr/>
          <p:nvPr/>
        </p:nvSpPr>
        <p:spPr>
          <a:xfrm>
            <a:off x="2971800" y="4419720"/>
            <a:ext cx="2371680" cy="19810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25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7040" y="4114800"/>
            <a:ext cx="274320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4191120"/>
            <a:ext cx="771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3686040" y="4191120"/>
            <a:ext cx="771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4191120"/>
            <a:ext cx="771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6086520" y="3886200"/>
            <a:ext cx="3514680" cy="12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6429240" y="4114800"/>
            <a:ext cx="274320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114800" y="4572000"/>
            <a:ext cx="1713960" cy="1523880"/>
            <a:chOff x="4114800" y="4572000"/>
            <a:chExt cx="1713960" cy="1523880"/>
          </a:xfrm>
        </p:grpSpPr>
        <p:sp>
          <p:nvSpPr>
            <p:cNvPr id="171" name=""/>
            <p:cNvSpPr/>
            <p:nvPr/>
          </p:nvSpPr>
          <p:spPr>
            <a:xfrm>
              <a:off x="4543200" y="4572000"/>
              <a:ext cx="685440" cy="6094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43320" y="5105160"/>
              <a:ext cx="685440" cy="60984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14800" y="5181480"/>
              <a:ext cx="685440" cy="6094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240" y="5486400"/>
              <a:ext cx="685440" cy="6094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886040" y="4648320"/>
            <a:ext cx="685800" cy="60948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429240" y="4495680"/>
            <a:ext cx="1713960" cy="1523880"/>
            <a:chOff x="6429240" y="4495680"/>
            <a:chExt cx="1713960" cy="1523880"/>
          </a:xfrm>
        </p:grpSpPr>
        <p:sp>
          <p:nvSpPr>
            <p:cNvPr id="177" name=""/>
            <p:cNvSpPr/>
            <p:nvPr/>
          </p:nvSpPr>
          <p:spPr>
            <a:xfrm>
              <a:off x="6857640" y="4495680"/>
              <a:ext cx="685440" cy="6094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57760" y="5028840"/>
              <a:ext cx="685440" cy="60984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9240" y="5105160"/>
              <a:ext cx="685440" cy="6094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14680" y="5410080"/>
              <a:ext cx="685440" cy="6094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115040" y="4495680"/>
            <a:ext cx="1713960" cy="1523880"/>
            <a:chOff x="7115040" y="4495680"/>
            <a:chExt cx="1713960" cy="1523880"/>
          </a:xfrm>
        </p:grpSpPr>
        <p:sp>
          <p:nvSpPr>
            <p:cNvPr id="182" name=""/>
            <p:cNvSpPr/>
            <p:nvPr/>
          </p:nvSpPr>
          <p:spPr>
            <a:xfrm>
              <a:off x="7543440" y="4495680"/>
              <a:ext cx="685440" cy="6094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43560" y="5028840"/>
              <a:ext cx="685440" cy="60984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15040" y="5105160"/>
              <a:ext cx="685440" cy="6094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00480" y="5410080"/>
              <a:ext cx="685440" cy="6094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52680" y="5334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我選阿尼的眼睛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2778840" y="6248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我選阿ㄆㄧㄚˇ的鼻孔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6893640" y="6019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我選愛玩親親的大嘴吧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2723400" y="1905120"/>
            <a:ext cx="48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剩下的病毒則落入地表、在缺乏溫度與溼度環境之下，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慢慢死去…  不過，假如剛好有一滴微小水珠進入人體的話…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514440" y="304920"/>
            <a:ext cx="4114800" cy="761760"/>
          </a:xfrm>
          <a:prstGeom prst="wedgeRoundRectCallout">
            <a:avLst>
              <a:gd name="adj1" fmla="val 65189"/>
              <a:gd name="adj2" fmla="val 33125"/>
              <a:gd name="adj3" fmla="val 16667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慘了！掉地上穩死了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144360" y="1411200"/>
            <a:ext cx="9713880" cy="424080"/>
          </a:xfrm>
          <a:custGeom>
            <a:avLst/>
            <a:gdLst/>
            <a:ahLst/>
            <a:rect l="l" t="t" r="r" b="b"/>
            <a:pathLst>
              <a:path w="5439" h="267">
                <a:moveTo>
                  <a:pt x="0" y="190"/>
                </a:moveTo>
                <a:cubicBezTo>
                  <a:pt x="136" y="161"/>
                  <a:pt x="267" y="157"/>
                  <a:pt x="399" y="213"/>
                </a:cubicBezTo>
                <a:cubicBezTo>
                  <a:pt x="578" y="200"/>
                  <a:pt x="788" y="152"/>
                  <a:pt x="967" y="190"/>
                </a:cubicBezTo>
                <a:cubicBezTo>
                  <a:pt x="1024" y="247"/>
                  <a:pt x="1072" y="250"/>
                  <a:pt x="1152" y="267"/>
                </a:cubicBezTo>
                <a:cubicBezTo>
                  <a:pt x="1277" y="259"/>
                  <a:pt x="1403" y="257"/>
                  <a:pt x="1528" y="244"/>
                </a:cubicBezTo>
                <a:cubicBezTo>
                  <a:pt x="1565" y="240"/>
                  <a:pt x="1603" y="203"/>
                  <a:pt x="1635" y="190"/>
                </a:cubicBezTo>
                <a:cubicBezTo>
                  <a:pt x="1732" y="152"/>
                  <a:pt x="1922" y="144"/>
                  <a:pt x="1989" y="136"/>
                </a:cubicBezTo>
                <a:cubicBezTo>
                  <a:pt x="2062" y="105"/>
                  <a:pt x="2134" y="68"/>
                  <a:pt x="2204" y="29"/>
                </a:cubicBezTo>
                <a:cubicBezTo>
                  <a:pt x="2258" y="37"/>
                  <a:pt x="2313" y="37"/>
                  <a:pt x="2365" y="52"/>
                </a:cubicBezTo>
                <a:cubicBezTo>
                  <a:pt x="2377" y="56"/>
                  <a:pt x="2375" y="83"/>
                  <a:pt x="2388" y="83"/>
                </a:cubicBezTo>
                <a:cubicBezTo>
                  <a:pt x="2478" y="85"/>
                  <a:pt x="2567" y="67"/>
                  <a:pt x="2657" y="59"/>
                </a:cubicBezTo>
                <a:cubicBezTo>
                  <a:pt x="2757" y="67"/>
                  <a:pt x="2857" y="70"/>
                  <a:pt x="2956" y="83"/>
                </a:cubicBezTo>
                <a:cubicBezTo>
                  <a:pt x="3008" y="90"/>
                  <a:pt x="3069" y="138"/>
                  <a:pt x="3118" y="159"/>
                </a:cubicBezTo>
                <a:cubicBezTo>
                  <a:pt x="3161" y="151"/>
                  <a:pt x="3205" y="147"/>
                  <a:pt x="3248" y="136"/>
                </a:cubicBezTo>
                <a:cubicBezTo>
                  <a:pt x="3309" y="121"/>
                  <a:pt x="3315" y="90"/>
                  <a:pt x="3387" y="83"/>
                </a:cubicBezTo>
                <a:cubicBezTo>
                  <a:pt x="3555" y="68"/>
                  <a:pt x="3724" y="67"/>
                  <a:pt x="3893" y="59"/>
                </a:cubicBezTo>
                <a:cubicBezTo>
                  <a:pt x="3922" y="43"/>
                  <a:pt x="3945" y="6"/>
                  <a:pt x="3978" y="6"/>
                </a:cubicBezTo>
                <a:cubicBezTo>
                  <a:pt x="4032" y="6"/>
                  <a:pt x="4085" y="25"/>
                  <a:pt x="4139" y="29"/>
                </a:cubicBezTo>
                <a:cubicBezTo>
                  <a:pt x="4290" y="40"/>
                  <a:pt x="4441" y="44"/>
                  <a:pt x="4592" y="52"/>
                </a:cubicBezTo>
                <a:cubicBezTo>
                  <a:pt x="4734" y="104"/>
                  <a:pt x="4879" y="70"/>
                  <a:pt x="5022" y="29"/>
                </a:cubicBezTo>
                <a:cubicBezTo>
                  <a:pt x="5041" y="24"/>
                  <a:pt x="5056" y="7"/>
                  <a:pt x="5076" y="6"/>
                </a:cubicBezTo>
                <a:cubicBezTo>
                  <a:pt x="5165" y="0"/>
                  <a:pt x="5255" y="6"/>
                  <a:pt x="5345" y="6"/>
                </a:cubicBezTo>
                <a:lnTo>
                  <a:pt x="5439" y="23"/>
                </a:lnTo>
              </a:path>
            </a:pathLst>
          </a:custGeom>
          <a:noFill/>
          <a:ln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43080" y="1219320"/>
            <a:ext cx="1713960" cy="457200"/>
            <a:chOff x="343080" y="1219320"/>
            <a:chExt cx="1713960" cy="457200"/>
          </a:xfrm>
        </p:grpSpPr>
        <p:sp>
          <p:nvSpPr>
            <p:cNvPr id="193" name=""/>
            <p:cNvSpPr/>
            <p:nvPr/>
          </p:nvSpPr>
          <p:spPr>
            <a:xfrm>
              <a:off x="771480" y="1219320"/>
              <a:ext cx="685440" cy="1828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71600" y="1379160"/>
              <a:ext cx="685440" cy="1828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3080" y="1402200"/>
              <a:ext cx="685440" cy="1828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28520" y="1493640"/>
              <a:ext cx="685440" cy="1828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800600" y="1066680"/>
            <a:ext cx="1713960" cy="457200"/>
            <a:chOff x="4800600" y="1066680"/>
            <a:chExt cx="1713960" cy="457200"/>
          </a:xfrm>
        </p:grpSpPr>
        <p:sp>
          <p:nvSpPr>
            <p:cNvPr id="198" name=""/>
            <p:cNvSpPr/>
            <p:nvPr/>
          </p:nvSpPr>
          <p:spPr>
            <a:xfrm>
              <a:off x="5229000" y="1066680"/>
              <a:ext cx="685440" cy="1828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29120" y="1226520"/>
              <a:ext cx="685440" cy="1828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1249560"/>
              <a:ext cx="685440" cy="1828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040" y="1341000"/>
              <a:ext cx="685440" cy="18288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cc"/>
                  </a:solidFill>
                  <a:latin typeface="Times New Roman"/>
                </a:rPr>
                <a:t>^_^</a:t>
              </a:r>
              <a:endParaRPr b="0" lang="en-US" sz="12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14440" y="144792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1714680" y="144792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1457280" y="18288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3086280" y="121932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18288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3686040" y="10666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3343320" y="16765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5057640" y="11430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4886280" y="15238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5657760" y="9907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13716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5229360" y="160020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5057640" y="19810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5829480" y="144792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5657760" y="18288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7286760" y="106668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115040" y="14479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12952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7458120" y="15238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7286760" y="190512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8058240" y="137160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>
            <a:off x="7886880" y="175248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6943680" y="19051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6772320" y="22860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17524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7372440" y="213372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7115040" y="23623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6943680" y="27432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7715160" y="22096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25909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1028880" y="1752480"/>
            <a:ext cx="428400" cy="76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2400480" y="1676520"/>
            <a:ext cx="428400" cy="759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4200480" y="1523880"/>
            <a:ext cx="428760" cy="76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6343560" y="1752480"/>
            <a:ext cx="428760" cy="76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9001080" y="35812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8829720" y="39625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9601200" y="34290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>
            <a:off x="9429840" y="380988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0" name=""/>
          <p:cNvSpPr/>
          <p:nvPr/>
        </p:nvSpPr>
        <p:spPr>
          <a:xfrm>
            <a:off x="9172440" y="40384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1" name=""/>
          <p:cNvSpPr/>
          <p:nvPr/>
        </p:nvSpPr>
        <p:spPr>
          <a:xfrm>
            <a:off x="9001080" y="44197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"/>
          <p:cNvSpPr/>
          <p:nvPr/>
        </p:nvSpPr>
        <p:spPr>
          <a:xfrm>
            <a:off x="9772560" y="38862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3" name=""/>
          <p:cNvSpPr/>
          <p:nvPr/>
        </p:nvSpPr>
        <p:spPr>
          <a:xfrm>
            <a:off x="9601200" y="42670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8658360" y="441972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5" name=""/>
          <p:cNvSpPr/>
          <p:nvPr/>
        </p:nvSpPr>
        <p:spPr>
          <a:xfrm>
            <a:off x="8486640" y="48006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6" name=""/>
          <p:cNvSpPr/>
          <p:nvPr/>
        </p:nvSpPr>
        <p:spPr>
          <a:xfrm>
            <a:off x="9258480" y="426708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9086760" y="46483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8829720" y="48769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8658360" y="525780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0" name=""/>
          <p:cNvSpPr/>
          <p:nvPr/>
        </p:nvSpPr>
        <p:spPr>
          <a:xfrm>
            <a:off x="9429840" y="472428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1" name=""/>
          <p:cNvSpPr/>
          <p:nvPr/>
        </p:nvSpPr>
        <p:spPr>
          <a:xfrm>
            <a:off x="9258480" y="510552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9686880" y="16002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3" name=""/>
          <p:cNvSpPr/>
          <p:nvPr/>
        </p:nvSpPr>
        <p:spPr>
          <a:xfrm>
            <a:off x="9515520" y="19810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4" name=""/>
          <p:cNvSpPr/>
          <p:nvPr/>
        </p:nvSpPr>
        <p:spPr>
          <a:xfrm>
            <a:off x="9858240" y="20574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9686880" y="24382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6" name=""/>
          <p:cNvSpPr/>
          <p:nvPr/>
        </p:nvSpPr>
        <p:spPr>
          <a:xfrm>
            <a:off x="9344160" y="243828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7" name=""/>
          <p:cNvSpPr/>
          <p:nvPr/>
        </p:nvSpPr>
        <p:spPr>
          <a:xfrm>
            <a:off x="9172440" y="28195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9944280" y="228600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9" name=""/>
          <p:cNvSpPr/>
          <p:nvPr/>
        </p:nvSpPr>
        <p:spPr>
          <a:xfrm>
            <a:off x="9772560" y="26668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"/>
          <p:cNvSpPr/>
          <p:nvPr/>
        </p:nvSpPr>
        <p:spPr>
          <a:xfrm>
            <a:off x="9515520" y="28954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>
            <a:off x="9344160" y="327672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9944280" y="312408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6686640" y="548640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"/>
          <p:cNvSpPr/>
          <p:nvPr/>
        </p:nvSpPr>
        <p:spPr>
          <a:xfrm>
            <a:off x="6515280" y="586728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7286760" y="533412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6" name=""/>
          <p:cNvSpPr/>
          <p:nvPr/>
        </p:nvSpPr>
        <p:spPr>
          <a:xfrm>
            <a:off x="7115040" y="57150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8143920" y="51055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8" name=""/>
          <p:cNvSpPr/>
          <p:nvPr/>
        </p:nvSpPr>
        <p:spPr>
          <a:xfrm>
            <a:off x="7972560" y="548640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7458120" y="57913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8572680" y="533412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>
            <a:off x="7629480" y="54864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2" name=""/>
          <p:cNvSpPr/>
          <p:nvPr/>
        </p:nvSpPr>
        <p:spPr>
          <a:xfrm>
            <a:off x="8229600" y="53341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8058240" y="571500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>
            <a:off x="7800840" y="59436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7629480" y="63244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>
            <a:off x="8400960" y="57913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"/>
          <p:cNvSpPr/>
          <p:nvPr/>
        </p:nvSpPr>
        <p:spPr>
          <a:xfrm>
            <a:off x="8229600" y="61722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7372440" y="350532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9" name=""/>
          <p:cNvSpPr/>
          <p:nvPr/>
        </p:nvSpPr>
        <p:spPr>
          <a:xfrm>
            <a:off x="7201080" y="388620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0" name=""/>
          <p:cNvSpPr/>
          <p:nvPr/>
        </p:nvSpPr>
        <p:spPr>
          <a:xfrm>
            <a:off x="7972560" y="335268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"/>
          <p:cNvSpPr/>
          <p:nvPr/>
        </p:nvSpPr>
        <p:spPr>
          <a:xfrm>
            <a:off x="7800840" y="37339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7543800" y="39625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3" name=""/>
          <p:cNvSpPr/>
          <p:nvPr/>
        </p:nvSpPr>
        <p:spPr>
          <a:xfrm>
            <a:off x="7372440" y="434340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"/>
          <p:cNvSpPr/>
          <p:nvPr/>
        </p:nvSpPr>
        <p:spPr>
          <a:xfrm>
            <a:off x="8143920" y="38098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7972560" y="419112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7029360" y="43434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0" y="47242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7629480" y="41911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7458120" y="45720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7201080" y="4800600"/>
            <a:ext cx="42840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7029360" y="518148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7800840" y="464832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3" name=""/>
          <p:cNvSpPr/>
          <p:nvPr/>
        </p:nvSpPr>
        <p:spPr>
          <a:xfrm>
            <a:off x="7629480" y="5029200"/>
            <a:ext cx="42876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4" name=""/>
          <p:cNvSpPr/>
          <p:nvPr/>
        </p:nvSpPr>
        <p:spPr>
          <a:xfrm>
            <a:off x="8229600" y="3048120"/>
            <a:ext cx="428760" cy="759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5" name=""/>
          <p:cNvSpPr/>
          <p:nvPr/>
        </p:nvSpPr>
        <p:spPr>
          <a:xfrm>
            <a:off x="114480" y="2590920"/>
            <a:ext cx="6362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大約三天的繁殖期，呼吸器官就被</a:t>
            </a:r>
            <a:r>
              <a:rPr b="0" lang="en-US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佔領了，</a:t>
            </a:r>
            <a:br>
              <a:rPr sz="1800"/>
            </a:b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假如繁殖順利（體力或</a:t>
            </a:r>
            <a:r>
              <a:rPr b="0" lang="en-US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DNA</a:t>
            </a: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太差的人），</a:t>
            </a:r>
            <a:br>
              <a:rPr sz="1800"/>
            </a:b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十天內就可以</a:t>
            </a:r>
            <a:r>
              <a:rPr b="0" lang="zh-TW" sz="1800" spc="-1" strike="noStrike">
                <a:solidFill>
                  <a:srgbClr val="ffff00"/>
                </a:solidFill>
                <a:latin typeface="標楷體"/>
                <a:ea typeface="標楷體"/>
              </a:rPr>
              <a:t>近距離對話、咳嗽或嘴鼻接觸傳染</a:t>
            </a: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其他人，</a:t>
            </a:r>
            <a:br>
              <a:rPr sz="1800"/>
            </a:b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通常發燒只是最簡單的檢查方法，卻不是最有效的，</a:t>
            </a:r>
            <a:br>
              <a:rPr sz="1800"/>
            </a:b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有的病人一開始只有</a:t>
            </a: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37.5</a:t>
            </a: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度的微燒…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3300"/>
                </a:solidFill>
                <a:latin typeface="標楷體"/>
                <a:ea typeface="標楷體"/>
              </a:rPr>
              <a:t>重要的是</a:t>
            </a: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…</a:t>
            </a:r>
            <a:r>
              <a:rPr b="0" lang="zh-TW" sz="1800" spc="-1" strike="noStrike">
                <a:solidFill>
                  <a:srgbClr val="ffff00"/>
                </a:solidFill>
                <a:latin typeface="標楷體"/>
                <a:ea typeface="標楷體"/>
              </a:rPr>
              <a:t>自己有喉嚨痛或四肢無力就帶上口罩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提早保護您所愛的朋友或家人，</a:t>
            </a:r>
            <a:r>
              <a:rPr b="0" lang="zh-TW" sz="1800" spc="-1" strike="noStrike">
                <a:solidFill>
                  <a:srgbClr val="ffff00"/>
                </a:solidFill>
                <a:latin typeface="標楷體"/>
                <a:ea typeface="標楷體"/>
              </a:rPr>
              <a:t>也警告身邊生病的人戴口罩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一旦發高燒別急著吃退燒藥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除非高燒</a:t>
            </a: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38.2</a:t>
            </a: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度超過１２小時即主動前往醫院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讓醫生替您治療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看醫生時，記得要全程戴口罩，除非醫生檢查喉嚨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返家後全身洗乾淨再上床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2594160" y="154080"/>
            <a:ext cx="398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近距離進入人體的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病毒，一開始不會被人的抵抗力發現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並且開始吸取人類的養分，進行細胞分裂繁殖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14440" y="14479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8" name=""/>
          <p:cNvSpPr/>
          <p:nvPr/>
        </p:nvSpPr>
        <p:spPr>
          <a:xfrm>
            <a:off x="1714680" y="14479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>
            <a:off x="1457280" y="18288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12193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2743200" y="18288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3686040" y="10666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3343320" y="16765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>
            <a:off x="1200240" y="30481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>
            <a:off x="857160" y="36576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1240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7" name=""/>
          <p:cNvSpPr/>
          <p:nvPr/>
        </p:nvSpPr>
        <p:spPr>
          <a:xfrm>
            <a:off x="1457280" y="35053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>
            <a:off x="5057640" y="11430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>
            <a:off x="4886280" y="15238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0" name=""/>
          <p:cNvSpPr/>
          <p:nvPr/>
        </p:nvSpPr>
        <p:spPr>
          <a:xfrm>
            <a:off x="5657760" y="9907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"/>
          <p:cNvSpPr/>
          <p:nvPr/>
        </p:nvSpPr>
        <p:spPr>
          <a:xfrm>
            <a:off x="5486400" y="13716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2" name=""/>
          <p:cNvSpPr/>
          <p:nvPr/>
        </p:nvSpPr>
        <p:spPr>
          <a:xfrm>
            <a:off x="5229360" y="16002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5057640" y="19810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4" name=""/>
          <p:cNvSpPr/>
          <p:nvPr/>
        </p:nvSpPr>
        <p:spPr>
          <a:xfrm>
            <a:off x="5829480" y="14479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"/>
          <p:cNvSpPr/>
          <p:nvPr/>
        </p:nvSpPr>
        <p:spPr>
          <a:xfrm>
            <a:off x="5657760" y="18288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6" name=""/>
          <p:cNvSpPr/>
          <p:nvPr/>
        </p:nvSpPr>
        <p:spPr>
          <a:xfrm>
            <a:off x="2057400" y="41148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7" name=""/>
          <p:cNvSpPr/>
          <p:nvPr/>
        </p:nvSpPr>
        <p:spPr>
          <a:xfrm>
            <a:off x="1886040" y="44956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8" name=""/>
          <p:cNvSpPr/>
          <p:nvPr/>
        </p:nvSpPr>
        <p:spPr>
          <a:xfrm>
            <a:off x="1628640" y="49528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"/>
          <p:cNvSpPr/>
          <p:nvPr/>
        </p:nvSpPr>
        <p:spPr>
          <a:xfrm>
            <a:off x="2486160" y="43434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0" name=""/>
          <p:cNvSpPr/>
          <p:nvPr/>
        </p:nvSpPr>
        <p:spPr>
          <a:xfrm>
            <a:off x="2228760" y="45720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1" name=""/>
          <p:cNvSpPr/>
          <p:nvPr/>
        </p:nvSpPr>
        <p:spPr>
          <a:xfrm>
            <a:off x="2057400" y="49528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2" name=""/>
          <p:cNvSpPr/>
          <p:nvPr/>
        </p:nvSpPr>
        <p:spPr>
          <a:xfrm>
            <a:off x="2828880" y="44197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"/>
          <p:cNvSpPr/>
          <p:nvPr/>
        </p:nvSpPr>
        <p:spPr>
          <a:xfrm>
            <a:off x="2657520" y="48006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7286760" y="10666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5" name=""/>
          <p:cNvSpPr/>
          <p:nvPr/>
        </p:nvSpPr>
        <p:spPr>
          <a:xfrm>
            <a:off x="7115040" y="14479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"/>
          <p:cNvSpPr/>
          <p:nvPr/>
        </p:nvSpPr>
        <p:spPr>
          <a:xfrm>
            <a:off x="7715160" y="12952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7" name=""/>
          <p:cNvSpPr/>
          <p:nvPr/>
        </p:nvSpPr>
        <p:spPr>
          <a:xfrm>
            <a:off x="7458120" y="15238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8" name=""/>
          <p:cNvSpPr/>
          <p:nvPr/>
        </p:nvSpPr>
        <p:spPr>
          <a:xfrm>
            <a:off x="7286760" y="19051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9" name=""/>
          <p:cNvSpPr/>
          <p:nvPr/>
        </p:nvSpPr>
        <p:spPr>
          <a:xfrm>
            <a:off x="8058240" y="13716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7886880" y="17524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"/>
          <p:cNvSpPr/>
          <p:nvPr/>
        </p:nvSpPr>
        <p:spPr>
          <a:xfrm>
            <a:off x="6943680" y="19051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2" name=""/>
          <p:cNvSpPr/>
          <p:nvPr/>
        </p:nvSpPr>
        <p:spPr>
          <a:xfrm>
            <a:off x="6772320" y="22860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3" name=""/>
          <p:cNvSpPr/>
          <p:nvPr/>
        </p:nvSpPr>
        <p:spPr>
          <a:xfrm>
            <a:off x="7543800" y="17524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7372440" y="21337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5" name=""/>
          <p:cNvSpPr/>
          <p:nvPr/>
        </p:nvSpPr>
        <p:spPr>
          <a:xfrm>
            <a:off x="7115040" y="23623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27432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7" name=""/>
          <p:cNvSpPr/>
          <p:nvPr/>
        </p:nvSpPr>
        <p:spPr>
          <a:xfrm>
            <a:off x="7715160" y="22096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8" name=""/>
          <p:cNvSpPr/>
          <p:nvPr/>
        </p:nvSpPr>
        <p:spPr>
          <a:xfrm>
            <a:off x="7543800" y="25909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"/>
          <p:cNvSpPr/>
          <p:nvPr/>
        </p:nvSpPr>
        <p:spPr>
          <a:xfrm>
            <a:off x="4371840" y="44956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>
            <a:off x="4200480" y="48769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1" name=""/>
          <p:cNvSpPr/>
          <p:nvPr/>
        </p:nvSpPr>
        <p:spPr>
          <a:xfrm>
            <a:off x="4971960" y="43434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47242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3" name=""/>
          <p:cNvSpPr/>
          <p:nvPr/>
        </p:nvSpPr>
        <p:spPr>
          <a:xfrm>
            <a:off x="4543560" y="49528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"/>
          <p:cNvSpPr/>
          <p:nvPr/>
        </p:nvSpPr>
        <p:spPr>
          <a:xfrm>
            <a:off x="4371840" y="53341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5" name=""/>
          <p:cNvSpPr/>
          <p:nvPr/>
        </p:nvSpPr>
        <p:spPr>
          <a:xfrm>
            <a:off x="5143680" y="48006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"/>
          <p:cNvSpPr/>
          <p:nvPr/>
        </p:nvSpPr>
        <p:spPr>
          <a:xfrm>
            <a:off x="4971960" y="51814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7" name=""/>
          <p:cNvSpPr/>
          <p:nvPr/>
        </p:nvSpPr>
        <p:spPr>
          <a:xfrm>
            <a:off x="4029120" y="53341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"/>
          <p:cNvSpPr/>
          <p:nvPr/>
        </p:nvSpPr>
        <p:spPr>
          <a:xfrm>
            <a:off x="3857760" y="57150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9" name=""/>
          <p:cNvSpPr/>
          <p:nvPr/>
        </p:nvSpPr>
        <p:spPr>
          <a:xfrm>
            <a:off x="4629240" y="51814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0" name=""/>
          <p:cNvSpPr/>
          <p:nvPr/>
        </p:nvSpPr>
        <p:spPr>
          <a:xfrm>
            <a:off x="4457880" y="55627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1" name=""/>
          <p:cNvSpPr/>
          <p:nvPr/>
        </p:nvSpPr>
        <p:spPr>
          <a:xfrm>
            <a:off x="4200480" y="57913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4029120" y="61722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"/>
          <p:cNvSpPr/>
          <p:nvPr/>
        </p:nvSpPr>
        <p:spPr>
          <a:xfrm>
            <a:off x="4800600" y="56386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4" name=""/>
          <p:cNvSpPr/>
          <p:nvPr/>
        </p:nvSpPr>
        <p:spPr>
          <a:xfrm>
            <a:off x="4629240" y="60199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5" name=""/>
          <p:cNvSpPr/>
          <p:nvPr/>
        </p:nvSpPr>
        <p:spPr>
          <a:xfrm>
            <a:off x="942840" y="1828800"/>
            <a:ext cx="514440" cy="76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42960" y="2362320"/>
            <a:ext cx="85680" cy="6094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>
            <a:off x="2400480" y="1676520"/>
            <a:ext cx="428400" cy="759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8" name=""/>
          <p:cNvSpPr/>
          <p:nvPr/>
        </p:nvSpPr>
        <p:spPr>
          <a:xfrm>
            <a:off x="4200480" y="1523880"/>
            <a:ext cx="428760" cy="76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9" name=""/>
          <p:cNvSpPr/>
          <p:nvPr/>
        </p:nvSpPr>
        <p:spPr>
          <a:xfrm>
            <a:off x="6343560" y="1752480"/>
            <a:ext cx="428760" cy="76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1457280" y="4191120"/>
            <a:ext cx="428760" cy="759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"/>
          <p:cNvSpPr/>
          <p:nvPr/>
        </p:nvSpPr>
        <p:spPr>
          <a:xfrm>
            <a:off x="3429000" y="5105520"/>
            <a:ext cx="428760" cy="759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2" name=""/>
          <p:cNvSpPr/>
          <p:nvPr/>
        </p:nvSpPr>
        <p:spPr>
          <a:xfrm>
            <a:off x="9001080" y="35812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3" name=""/>
          <p:cNvSpPr/>
          <p:nvPr/>
        </p:nvSpPr>
        <p:spPr>
          <a:xfrm>
            <a:off x="8829720" y="39625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4" name=""/>
          <p:cNvSpPr/>
          <p:nvPr/>
        </p:nvSpPr>
        <p:spPr>
          <a:xfrm>
            <a:off x="9601200" y="34290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"/>
          <p:cNvSpPr/>
          <p:nvPr/>
        </p:nvSpPr>
        <p:spPr>
          <a:xfrm>
            <a:off x="9429840" y="38098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6" name=""/>
          <p:cNvSpPr/>
          <p:nvPr/>
        </p:nvSpPr>
        <p:spPr>
          <a:xfrm>
            <a:off x="9172440" y="40384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7" name=""/>
          <p:cNvSpPr/>
          <p:nvPr/>
        </p:nvSpPr>
        <p:spPr>
          <a:xfrm>
            <a:off x="9001080" y="44197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"/>
          <p:cNvSpPr/>
          <p:nvPr/>
        </p:nvSpPr>
        <p:spPr>
          <a:xfrm>
            <a:off x="9772560" y="38862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9" name=""/>
          <p:cNvSpPr/>
          <p:nvPr/>
        </p:nvSpPr>
        <p:spPr>
          <a:xfrm>
            <a:off x="9601200" y="42670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0" name=""/>
          <p:cNvSpPr/>
          <p:nvPr/>
        </p:nvSpPr>
        <p:spPr>
          <a:xfrm>
            <a:off x="8658360" y="44197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1" name=""/>
          <p:cNvSpPr/>
          <p:nvPr/>
        </p:nvSpPr>
        <p:spPr>
          <a:xfrm>
            <a:off x="8486640" y="48006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>
            <a:off x="9258480" y="42670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"/>
          <p:cNvSpPr/>
          <p:nvPr/>
        </p:nvSpPr>
        <p:spPr>
          <a:xfrm>
            <a:off x="9086760" y="46483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4" name=""/>
          <p:cNvSpPr/>
          <p:nvPr/>
        </p:nvSpPr>
        <p:spPr>
          <a:xfrm>
            <a:off x="8829720" y="48769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5" name=""/>
          <p:cNvSpPr/>
          <p:nvPr/>
        </p:nvSpPr>
        <p:spPr>
          <a:xfrm>
            <a:off x="8658360" y="52578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6" name=""/>
          <p:cNvSpPr/>
          <p:nvPr/>
        </p:nvSpPr>
        <p:spPr>
          <a:xfrm>
            <a:off x="9429840" y="47242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7" name=""/>
          <p:cNvSpPr/>
          <p:nvPr/>
        </p:nvSpPr>
        <p:spPr>
          <a:xfrm>
            <a:off x="9258480" y="51055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8" name=""/>
          <p:cNvSpPr/>
          <p:nvPr/>
        </p:nvSpPr>
        <p:spPr>
          <a:xfrm>
            <a:off x="9686880" y="16002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9" name=""/>
          <p:cNvSpPr/>
          <p:nvPr/>
        </p:nvSpPr>
        <p:spPr>
          <a:xfrm>
            <a:off x="9515520" y="19810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0" name=""/>
          <p:cNvSpPr/>
          <p:nvPr/>
        </p:nvSpPr>
        <p:spPr>
          <a:xfrm>
            <a:off x="9858240" y="20574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"/>
          <p:cNvSpPr/>
          <p:nvPr/>
        </p:nvSpPr>
        <p:spPr>
          <a:xfrm>
            <a:off x="9686880" y="24382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2" name=""/>
          <p:cNvSpPr/>
          <p:nvPr/>
        </p:nvSpPr>
        <p:spPr>
          <a:xfrm>
            <a:off x="9344160" y="24382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3" name=""/>
          <p:cNvSpPr/>
          <p:nvPr/>
        </p:nvSpPr>
        <p:spPr>
          <a:xfrm>
            <a:off x="9172440" y="28195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4" name=""/>
          <p:cNvSpPr/>
          <p:nvPr/>
        </p:nvSpPr>
        <p:spPr>
          <a:xfrm>
            <a:off x="9944280" y="22860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5" name=""/>
          <p:cNvSpPr/>
          <p:nvPr/>
        </p:nvSpPr>
        <p:spPr>
          <a:xfrm>
            <a:off x="9772560" y="26668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"/>
          <p:cNvSpPr/>
          <p:nvPr/>
        </p:nvSpPr>
        <p:spPr>
          <a:xfrm>
            <a:off x="9515520" y="28954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7" name=""/>
          <p:cNvSpPr/>
          <p:nvPr/>
        </p:nvSpPr>
        <p:spPr>
          <a:xfrm>
            <a:off x="9344160" y="32767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"/>
          <p:cNvSpPr/>
          <p:nvPr/>
        </p:nvSpPr>
        <p:spPr>
          <a:xfrm>
            <a:off x="9944280" y="31240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9" name=""/>
          <p:cNvSpPr/>
          <p:nvPr/>
        </p:nvSpPr>
        <p:spPr>
          <a:xfrm>
            <a:off x="6686640" y="54864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"/>
          <p:cNvSpPr/>
          <p:nvPr/>
        </p:nvSpPr>
        <p:spPr>
          <a:xfrm>
            <a:off x="6515280" y="58672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7286760" y="53341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2" name=""/>
          <p:cNvSpPr/>
          <p:nvPr/>
        </p:nvSpPr>
        <p:spPr>
          <a:xfrm>
            <a:off x="7115040" y="57150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8143920" y="51055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4" name=""/>
          <p:cNvSpPr/>
          <p:nvPr/>
        </p:nvSpPr>
        <p:spPr>
          <a:xfrm>
            <a:off x="7972560" y="54864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>
            <a:off x="7458120" y="57913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6" name=""/>
          <p:cNvSpPr/>
          <p:nvPr/>
        </p:nvSpPr>
        <p:spPr>
          <a:xfrm>
            <a:off x="8572680" y="53341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7" name=""/>
          <p:cNvSpPr/>
          <p:nvPr/>
        </p:nvSpPr>
        <p:spPr>
          <a:xfrm>
            <a:off x="7629480" y="54864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8" name=""/>
          <p:cNvSpPr/>
          <p:nvPr/>
        </p:nvSpPr>
        <p:spPr>
          <a:xfrm>
            <a:off x="8229600" y="53341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"/>
          <p:cNvSpPr/>
          <p:nvPr/>
        </p:nvSpPr>
        <p:spPr>
          <a:xfrm>
            <a:off x="8058240" y="57150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0" name=""/>
          <p:cNvSpPr/>
          <p:nvPr/>
        </p:nvSpPr>
        <p:spPr>
          <a:xfrm>
            <a:off x="7800840" y="59436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1" name=""/>
          <p:cNvSpPr/>
          <p:nvPr/>
        </p:nvSpPr>
        <p:spPr>
          <a:xfrm>
            <a:off x="7629480" y="63244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2" name=""/>
          <p:cNvSpPr/>
          <p:nvPr/>
        </p:nvSpPr>
        <p:spPr>
          <a:xfrm>
            <a:off x="8400960" y="57913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"/>
          <p:cNvSpPr/>
          <p:nvPr/>
        </p:nvSpPr>
        <p:spPr>
          <a:xfrm>
            <a:off x="8229600" y="61722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4" name=""/>
          <p:cNvSpPr/>
          <p:nvPr/>
        </p:nvSpPr>
        <p:spPr>
          <a:xfrm>
            <a:off x="7372440" y="35053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5" name=""/>
          <p:cNvSpPr/>
          <p:nvPr/>
        </p:nvSpPr>
        <p:spPr>
          <a:xfrm>
            <a:off x="7201080" y="38862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6" name=""/>
          <p:cNvSpPr/>
          <p:nvPr/>
        </p:nvSpPr>
        <p:spPr>
          <a:xfrm>
            <a:off x="7972560" y="33526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"/>
          <p:cNvSpPr/>
          <p:nvPr/>
        </p:nvSpPr>
        <p:spPr>
          <a:xfrm>
            <a:off x="7800840" y="37339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8" name=""/>
          <p:cNvSpPr/>
          <p:nvPr/>
        </p:nvSpPr>
        <p:spPr>
          <a:xfrm>
            <a:off x="7543800" y="39625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9" name=""/>
          <p:cNvSpPr/>
          <p:nvPr/>
        </p:nvSpPr>
        <p:spPr>
          <a:xfrm>
            <a:off x="7372440" y="43434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"/>
          <p:cNvSpPr/>
          <p:nvPr/>
        </p:nvSpPr>
        <p:spPr>
          <a:xfrm>
            <a:off x="8143920" y="38098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1" name=""/>
          <p:cNvSpPr/>
          <p:nvPr/>
        </p:nvSpPr>
        <p:spPr>
          <a:xfrm>
            <a:off x="7972560" y="41911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2" name=""/>
          <p:cNvSpPr/>
          <p:nvPr/>
        </p:nvSpPr>
        <p:spPr>
          <a:xfrm>
            <a:off x="7029360" y="43434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47242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4" name=""/>
          <p:cNvSpPr/>
          <p:nvPr/>
        </p:nvSpPr>
        <p:spPr>
          <a:xfrm>
            <a:off x="7629480" y="41911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"/>
          <p:cNvSpPr/>
          <p:nvPr/>
        </p:nvSpPr>
        <p:spPr>
          <a:xfrm>
            <a:off x="7458120" y="45720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6" name=""/>
          <p:cNvSpPr/>
          <p:nvPr/>
        </p:nvSpPr>
        <p:spPr>
          <a:xfrm>
            <a:off x="7201080" y="48006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7" name=""/>
          <p:cNvSpPr/>
          <p:nvPr/>
        </p:nvSpPr>
        <p:spPr>
          <a:xfrm>
            <a:off x="7029360" y="51814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8" name=""/>
          <p:cNvSpPr/>
          <p:nvPr/>
        </p:nvSpPr>
        <p:spPr>
          <a:xfrm>
            <a:off x="7800840" y="46483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9" name=""/>
          <p:cNvSpPr/>
          <p:nvPr/>
        </p:nvSpPr>
        <p:spPr>
          <a:xfrm>
            <a:off x="7629480" y="50292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0" name=""/>
          <p:cNvSpPr/>
          <p:nvPr/>
        </p:nvSpPr>
        <p:spPr>
          <a:xfrm>
            <a:off x="8229600" y="3048120"/>
            <a:ext cx="428760" cy="759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1" name=""/>
          <p:cNvSpPr/>
          <p:nvPr/>
        </p:nvSpPr>
        <p:spPr>
          <a:xfrm>
            <a:off x="6086520" y="5105520"/>
            <a:ext cx="428760" cy="759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2" name=""/>
          <p:cNvSpPr/>
          <p:nvPr/>
        </p:nvSpPr>
        <p:spPr>
          <a:xfrm>
            <a:off x="2039760" y="2451240"/>
            <a:ext cx="487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一個人大約可以傳染給</a:t>
            </a: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12</a:t>
            </a: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個人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依此類推，一個人口稠密的</a:t>
            </a:r>
            <a:r>
              <a:rPr b="0" lang="zh-TW" sz="1800" spc="-1" strike="noStrike">
                <a:solidFill>
                  <a:srgbClr val="ffff00"/>
                </a:solidFill>
                <a:latin typeface="標楷體"/>
                <a:ea typeface="標楷體"/>
              </a:rPr>
              <a:t>波斯帝國</a:t>
            </a:r>
            <a:br>
              <a:rPr sz="1800"/>
            </a:b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在第七波的傳染（約七十天內），</a:t>
            </a:r>
            <a:br>
              <a:rPr sz="1800"/>
            </a:b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就徹底瓦解…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1*12*12*12*12*12*12*12 = </a:t>
            </a: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至少</a:t>
            </a: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2400</a:t>
            </a:r>
            <a:r>
              <a:rPr b="0" lang="zh-TW" sz="1800" spc="-1" strike="noStrike">
                <a:solidFill>
                  <a:srgbClr val="ffffcc"/>
                </a:solidFill>
                <a:latin typeface="標楷體"/>
                <a:ea typeface="標楷體"/>
              </a:rPr>
              <a:t>萬人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"/>
          <p:cNvSpPr/>
          <p:nvPr/>
        </p:nvSpPr>
        <p:spPr>
          <a:xfrm>
            <a:off x="2572560" y="154080"/>
            <a:ext cx="500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假如廿一世紀的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像十九世紀以前的黑死病一樣，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被隱藏消息、或是沒有及早發現、及早隔離或醫治的話…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>
            <a:off x="1028880" y="1600200"/>
            <a:ext cx="6858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771480" y="1981080"/>
            <a:ext cx="17136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6" name=""/>
          <p:cNvSpPr/>
          <p:nvPr/>
        </p:nvSpPr>
        <p:spPr>
          <a:xfrm>
            <a:off x="857160" y="24382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7" name=""/>
          <p:cNvSpPr/>
          <p:nvPr/>
        </p:nvSpPr>
        <p:spPr>
          <a:xfrm>
            <a:off x="343080" y="26668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"/>
          <p:cNvSpPr/>
          <p:nvPr/>
        </p:nvSpPr>
        <p:spPr>
          <a:xfrm>
            <a:off x="1200240" y="21337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9" name=""/>
          <p:cNvSpPr/>
          <p:nvPr/>
        </p:nvSpPr>
        <p:spPr>
          <a:xfrm>
            <a:off x="1542960" y="9907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10666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942840" y="1218960"/>
            <a:ext cx="60012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"/>
          <p:cNvSpPr/>
          <p:nvPr/>
        </p:nvSpPr>
        <p:spPr>
          <a:xfrm>
            <a:off x="600120" y="1828800"/>
            <a:ext cx="0" cy="7621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3" name=""/>
          <p:cNvSpPr/>
          <p:nvPr/>
        </p:nvSpPr>
        <p:spPr>
          <a:xfrm>
            <a:off x="771480" y="1905120"/>
            <a:ext cx="51444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4" name=""/>
          <p:cNvSpPr/>
          <p:nvPr/>
        </p:nvSpPr>
        <p:spPr>
          <a:xfrm>
            <a:off x="514440" y="30481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5" name=""/>
          <p:cNvSpPr/>
          <p:nvPr/>
        </p:nvSpPr>
        <p:spPr>
          <a:xfrm>
            <a:off x="514440" y="51814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6" name=""/>
          <p:cNvSpPr/>
          <p:nvPr/>
        </p:nvSpPr>
        <p:spPr>
          <a:xfrm>
            <a:off x="257040" y="56386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"/>
          <p:cNvSpPr/>
          <p:nvPr/>
        </p:nvSpPr>
        <p:spPr>
          <a:xfrm>
            <a:off x="1114560" y="502920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8" name=""/>
          <p:cNvSpPr/>
          <p:nvPr/>
        </p:nvSpPr>
        <p:spPr>
          <a:xfrm>
            <a:off x="857160" y="52578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56386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0" name=""/>
          <p:cNvSpPr/>
          <p:nvPr/>
        </p:nvSpPr>
        <p:spPr>
          <a:xfrm>
            <a:off x="1457280" y="51055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"/>
          <p:cNvSpPr/>
          <p:nvPr/>
        </p:nvSpPr>
        <p:spPr>
          <a:xfrm>
            <a:off x="1285920" y="54864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2" name=""/>
          <p:cNvSpPr/>
          <p:nvPr/>
        </p:nvSpPr>
        <p:spPr>
          <a:xfrm>
            <a:off x="2657520" y="49528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3" name=""/>
          <p:cNvSpPr/>
          <p:nvPr/>
        </p:nvSpPr>
        <p:spPr>
          <a:xfrm>
            <a:off x="2486160" y="53341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>
            <a:off x="3086280" y="51814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"/>
          <p:cNvSpPr/>
          <p:nvPr/>
        </p:nvSpPr>
        <p:spPr>
          <a:xfrm>
            <a:off x="2828880" y="54100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2657520" y="57913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7" name=""/>
          <p:cNvSpPr/>
          <p:nvPr/>
        </p:nvSpPr>
        <p:spPr>
          <a:xfrm>
            <a:off x="3429000" y="52578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8" name=""/>
          <p:cNvSpPr/>
          <p:nvPr/>
        </p:nvSpPr>
        <p:spPr>
          <a:xfrm>
            <a:off x="3257640" y="56386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"/>
          <p:cNvSpPr/>
          <p:nvPr/>
        </p:nvSpPr>
        <p:spPr>
          <a:xfrm>
            <a:off x="2314440" y="57913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0" name=""/>
          <p:cNvSpPr/>
          <p:nvPr/>
        </p:nvSpPr>
        <p:spPr>
          <a:xfrm>
            <a:off x="2143080" y="617220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1" name=""/>
          <p:cNvSpPr/>
          <p:nvPr/>
        </p:nvSpPr>
        <p:spPr>
          <a:xfrm>
            <a:off x="2914560" y="563868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6019920"/>
            <a:ext cx="42876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3" name=""/>
          <p:cNvSpPr/>
          <p:nvPr/>
        </p:nvSpPr>
        <p:spPr>
          <a:xfrm>
            <a:off x="2486160" y="624852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4" name=""/>
          <p:cNvSpPr/>
          <p:nvPr/>
        </p:nvSpPr>
        <p:spPr>
          <a:xfrm>
            <a:off x="3086280" y="6095880"/>
            <a:ext cx="428400" cy="45720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85680" y="6019920"/>
            <a:ext cx="9713880" cy="423720"/>
          </a:xfrm>
          <a:custGeom>
            <a:avLst/>
            <a:gdLst/>
            <a:ahLst/>
            <a:rect l="l" t="t" r="r" b="b"/>
            <a:pathLst>
              <a:path w="5439" h="267">
                <a:moveTo>
                  <a:pt x="0" y="190"/>
                </a:moveTo>
                <a:cubicBezTo>
                  <a:pt x="136" y="161"/>
                  <a:pt x="267" y="157"/>
                  <a:pt x="399" y="213"/>
                </a:cubicBezTo>
                <a:cubicBezTo>
                  <a:pt x="578" y="200"/>
                  <a:pt x="788" y="152"/>
                  <a:pt x="967" y="190"/>
                </a:cubicBezTo>
                <a:cubicBezTo>
                  <a:pt x="1024" y="247"/>
                  <a:pt x="1072" y="250"/>
                  <a:pt x="1152" y="267"/>
                </a:cubicBezTo>
                <a:cubicBezTo>
                  <a:pt x="1277" y="259"/>
                  <a:pt x="1403" y="257"/>
                  <a:pt x="1528" y="244"/>
                </a:cubicBezTo>
                <a:cubicBezTo>
                  <a:pt x="1565" y="240"/>
                  <a:pt x="1603" y="203"/>
                  <a:pt x="1635" y="190"/>
                </a:cubicBezTo>
                <a:cubicBezTo>
                  <a:pt x="1732" y="152"/>
                  <a:pt x="1922" y="144"/>
                  <a:pt x="1989" y="136"/>
                </a:cubicBezTo>
                <a:cubicBezTo>
                  <a:pt x="2062" y="105"/>
                  <a:pt x="2134" y="68"/>
                  <a:pt x="2204" y="29"/>
                </a:cubicBezTo>
                <a:cubicBezTo>
                  <a:pt x="2258" y="37"/>
                  <a:pt x="2313" y="37"/>
                  <a:pt x="2365" y="52"/>
                </a:cubicBezTo>
                <a:cubicBezTo>
                  <a:pt x="2377" y="56"/>
                  <a:pt x="2375" y="83"/>
                  <a:pt x="2388" y="83"/>
                </a:cubicBezTo>
                <a:cubicBezTo>
                  <a:pt x="2478" y="85"/>
                  <a:pt x="2567" y="67"/>
                  <a:pt x="2657" y="59"/>
                </a:cubicBezTo>
                <a:cubicBezTo>
                  <a:pt x="2757" y="67"/>
                  <a:pt x="2857" y="70"/>
                  <a:pt x="2956" y="83"/>
                </a:cubicBezTo>
                <a:cubicBezTo>
                  <a:pt x="3008" y="90"/>
                  <a:pt x="3069" y="138"/>
                  <a:pt x="3118" y="159"/>
                </a:cubicBezTo>
                <a:cubicBezTo>
                  <a:pt x="3161" y="151"/>
                  <a:pt x="3205" y="147"/>
                  <a:pt x="3248" y="136"/>
                </a:cubicBezTo>
                <a:cubicBezTo>
                  <a:pt x="3309" y="121"/>
                  <a:pt x="3315" y="90"/>
                  <a:pt x="3387" y="83"/>
                </a:cubicBezTo>
                <a:cubicBezTo>
                  <a:pt x="3555" y="68"/>
                  <a:pt x="3724" y="67"/>
                  <a:pt x="3893" y="59"/>
                </a:cubicBezTo>
                <a:cubicBezTo>
                  <a:pt x="3922" y="43"/>
                  <a:pt x="3945" y="6"/>
                  <a:pt x="3978" y="6"/>
                </a:cubicBezTo>
                <a:cubicBezTo>
                  <a:pt x="4032" y="6"/>
                  <a:pt x="4085" y="25"/>
                  <a:pt x="4139" y="29"/>
                </a:cubicBezTo>
                <a:cubicBezTo>
                  <a:pt x="4290" y="40"/>
                  <a:pt x="4441" y="44"/>
                  <a:pt x="4592" y="52"/>
                </a:cubicBezTo>
                <a:cubicBezTo>
                  <a:pt x="4734" y="104"/>
                  <a:pt x="4879" y="70"/>
                  <a:pt x="5022" y="29"/>
                </a:cubicBezTo>
                <a:cubicBezTo>
                  <a:pt x="5041" y="24"/>
                  <a:pt x="5056" y="7"/>
                  <a:pt x="5076" y="6"/>
                </a:cubicBezTo>
                <a:cubicBezTo>
                  <a:pt x="5165" y="0"/>
                  <a:pt x="5255" y="6"/>
                  <a:pt x="5345" y="6"/>
                </a:cubicBezTo>
                <a:lnTo>
                  <a:pt x="5439" y="23"/>
                </a:lnTo>
              </a:path>
            </a:pathLst>
          </a:custGeom>
          <a:noFill/>
          <a:ln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6" name=""/>
          <p:cNvSpPr/>
          <p:nvPr/>
        </p:nvSpPr>
        <p:spPr>
          <a:xfrm>
            <a:off x="2406240" y="534960"/>
            <a:ext cx="54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有點類似 地下錢莊 或 現金卡日息借錢 或 違法老鼠會直銷一樣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利滾利 或是 一個拖一個下水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"/>
          <p:cNvSpPr/>
          <p:nvPr/>
        </p:nvSpPr>
        <p:spPr>
          <a:xfrm>
            <a:off x="3021480" y="2666880"/>
            <a:ext cx="43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這就是以前人們所學的數學：等比增加的數字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=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等比級數。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假如沒有任何防備、人類瘟疫就會以“等比”的高速傳染開來！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419720"/>
            <a:ext cx="1200240" cy="9144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1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4419720"/>
            <a:ext cx="3810240" cy="1143000"/>
          </a:xfrm>
          <a:prstGeom prst="wedgeRoundRectCallout">
            <a:avLst>
              <a:gd name="adj1" fmla="val -56875"/>
              <a:gd name="adj2" fmla="val -23888"/>
              <a:gd name="adj3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我可是天天保持微笑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~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天真無邪的病毒寶寶喔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!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04576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1" name=""/>
          <p:cNvSpPr/>
          <p:nvPr/>
        </p:nvSpPr>
        <p:spPr>
          <a:xfrm>
            <a:off x="128592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2" name=""/>
          <p:cNvSpPr/>
          <p:nvPr/>
        </p:nvSpPr>
        <p:spPr>
          <a:xfrm>
            <a:off x="3772080" y="13716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3" name=""/>
          <p:cNvSpPr/>
          <p:nvPr/>
        </p:nvSpPr>
        <p:spPr>
          <a:xfrm>
            <a:off x="5229360" y="13716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4" name=""/>
          <p:cNvSpPr/>
          <p:nvPr/>
        </p:nvSpPr>
        <p:spPr>
          <a:xfrm>
            <a:off x="1800360" y="13716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"/>
          <p:cNvSpPr/>
          <p:nvPr/>
        </p:nvSpPr>
        <p:spPr>
          <a:xfrm>
            <a:off x="231444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282888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325764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8" name=""/>
          <p:cNvSpPr/>
          <p:nvPr/>
        </p:nvSpPr>
        <p:spPr>
          <a:xfrm>
            <a:off x="574344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9" name=""/>
          <p:cNvSpPr/>
          <p:nvPr/>
        </p:nvSpPr>
        <p:spPr>
          <a:xfrm>
            <a:off x="420048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"/>
          <p:cNvSpPr/>
          <p:nvPr/>
        </p:nvSpPr>
        <p:spPr>
          <a:xfrm>
            <a:off x="4714920" y="1371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1" name=""/>
          <p:cNvSpPr/>
          <p:nvPr/>
        </p:nvSpPr>
        <p:spPr>
          <a:xfrm>
            <a:off x="5572080" y="1905120"/>
            <a:ext cx="857160" cy="3045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3257280" y="1905120"/>
            <a:ext cx="857160" cy="3808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3" name=""/>
          <p:cNvSpPr/>
          <p:nvPr/>
        </p:nvSpPr>
        <p:spPr>
          <a:xfrm>
            <a:off x="6429240" y="22860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"/>
          <p:cNvSpPr/>
          <p:nvPr/>
        </p:nvSpPr>
        <p:spPr>
          <a:xfrm>
            <a:off x="6943680" y="22860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5" name=""/>
          <p:cNvSpPr/>
          <p:nvPr/>
        </p:nvSpPr>
        <p:spPr>
          <a:xfrm>
            <a:off x="7458120" y="22860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6" name=""/>
          <p:cNvSpPr/>
          <p:nvPr/>
        </p:nvSpPr>
        <p:spPr>
          <a:xfrm>
            <a:off x="8400960" y="22860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7" name=""/>
          <p:cNvSpPr/>
          <p:nvPr/>
        </p:nvSpPr>
        <p:spPr>
          <a:xfrm>
            <a:off x="6429240" y="27432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458120" y="27432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"/>
          <p:cNvSpPr/>
          <p:nvPr/>
        </p:nvSpPr>
        <p:spPr>
          <a:xfrm>
            <a:off x="7972560" y="22860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0" name=""/>
          <p:cNvSpPr/>
          <p:nvPr/>
        </p:nvSpPr>
        <p:spPr>
          <a:xfrm>
            <a:off x="8400960" y="27432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1" name=""/>
          <p:cNvSpPr/>
          <p:nvPr/>
        </p:nvSpPr>
        <p:spPr>
          <a:xfrm>
            <a:off x="1114560" y="243828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2" name=""/>
          <p:cNvSpPr/>
          <p:nvPr/>
        </p:nvSpPr>
        <p:spPr>
          <a:xfrm>
            <a:off x="1628640" y="243828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"/>
          <p:cNvSpPr/>
          <p:nvPr/>
        </p:nvSpPr>
        <p:spPr>
          <a:xfrm>
            <a:off x="2143080" y="243828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4" name=""/>
          <p:cNvSpPr/>
          <p:nvPr/>
        </p:nvSpPr>
        <p:spPr>
          <a:xfrm>
            <a:off x="2657520" y="243828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5" name=""/>
          <p:cNvSpPr/>
          <p:nvPr/>
        </p:nvSpPr>
        <p:spPr>
          <a:xfrm>
            <a:off x="3086280" y="243828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6" name=""/>
          <p:cNvSpPr/>
          <p:nvPr/>
        </p:nvSpPr>
        <p:spPr>
          <a:xfrm>
            <a:off x="1114560" y="289548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"/>
          <p:cNvSpPr/>
          <p:nvPr/>
        </p:nvSpPr>
        <p:spPr>
          <a:xfrm>
            <a:off x="2143080" y="289548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8" name=""/>
          <p:cNvSpPr/>
          <p:nvPr/>
        </p:nvSpPr>
        <p:spPr>
          <a:xfrm>
            <a:off x="2657520" y="289548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9" name=""/>
          <p:cNvSpPr/>
          <p:nvPr/>
        </p:nvSpPr>
        <p:spPr>
          <a:xfrm>
            <a:off x="1628640" y="29718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0" name=""/>
          <p:cNvSpPr/>
          <p:nvPr/>
        </p:nvSpPr>
        <p:spPr>
          <a:xfrm>
            <a:off x="3086280" y="289548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"/>
          <p:cNvSpPr/>
          <p:nvPr/>
        </p:nvSpPr>
        <p:spPr>
          <a:xfrm>
            <a:off x="6943680" y="281952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2" name=""/>
          <p:cNvSpPr/>
          <p:nvPr/>
        </p:nvSpPr>
        <p:spPr>
          <a:xfrm>
            <a:off x="7972560" y="281952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3" name=""/>
          <p:cNvSpPr/>
          <p:nvPr/>
        </p:nvSpPr>
        <p:spPr>
          <a:xfrm>
            <a:off x="3343320" y="43434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"/>
          <p:cNvSpPr/>
          <p:nvPr/>
        </p:nvSpPr>
        <p:spPr>
          <a:xfrm>
            <a:off x="3857760" y="43434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5" name=""/>
          <p:cNvSpPr/>
          <p:nvPr/>
        </p:nvSpPr>
        <p:spPr>
          <a:xfrm>
            <a:off x="4371840" y="43434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6" name=""/>
          <p:cNvSpPr/>
          <p:nvPr/>
        </p:nvSpPr>
        <p:spPr>
          <a:xfrm>
            <a:off x="4886280" y="43434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7" name=""/>
          <p:cNvSpPr/>
          <p:nvPr/>
        </p:nvSpPr>
        <p:spPr>
          <a:xfrm>
            <a:off x="5315040" y="43434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8" name=""/>
          <p:cNvSpPr/>
          <p:nvPr/>
        </p:nvSpPr>
        <p:spPr>
          <a:xfrm>
            <a:off x="3343320" y="4800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"/>
          <p:cNvSpPr/>
          <p:nvPr/>
        </p:nvSpPr>
        <p:spPr>
          <a:xfrm>
            <a:off x="4371840" y="4800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0" name=""/>
          <p:cNvSpPr/>
          <p:nvPr/>
        </p:nvSpPr>
        <p:spPr>
          <a:xfrm>
            <a:off x="4886280" y="4800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1" name=""/>
          <p:cNvSpPr/>
          <p:nvPr/>
        </p:nvSpPr>
        <p:spPr>
          <a:xfrm>
            <a:off x="3857760" y="487692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2" name=""/>
          <p:cNvSpPr/>
          <p:nvPr/>
        </p:nvSpPr>
        <p:spPr>
          <a:xfrm>
            <a:off x="5315040" y="4800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3" name=""/>
          <p:cNvSpPr/>
          <p:nvPr/>
        </p:nvSpPr>
        <p:spPr>
          <a:xfrm>
            <a:off x="257040" y="441972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4" name=""/>
          <p:cNvSpPr/>
          <p:nvPr/>
        </p:nvSpPr>
        <p:spPr>
          <a:xfrm>
            <a:off x="771480" y="441972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5" name=""/>
          <p:cNvSpPr/>
          <p:nvPr/>
        </p:nvSpPr>
        <p:spPr>
          <a:xfrm>
            <a:off x="1285920" y="441972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6" name=""/>
          <p:cNvSpPr/>
          <p:nvPr/>
        </p:nvSpPr>
        <p:spPr>
          <a:xfrm>
            <a:off x="1800360" y="441972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"/>
          <p:cNvSpPr/>
          <p:nvPr/>
        </p:nvSpPr>
        <p:spPr>
          <a:xfrm>
            <a:off x="2228760" y="441972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8" name=""/>
          <p:cNvSpPr/>
          <p:nvPr/>
        </p:nvSpPr>
        <p:spPr>
          <a:xfrm>
            <a:off x="257040" y="487692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9" name=""/>
          <p:cNvSpPr/>
          <p:nvPr/>
        </p:nvSpPr>
        <p:spPr>
          <a:xfrm>
            <a:off x="1285920" y="487692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0" name=""/>
          <p:cNvSpPr/>
          <p:nvPr/>
        </p:nvSpPr>
        <p:spPr>
          <a:xfrm>
            <a:off x="1800360" y="487692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1" name=""/>
          <p:cNvSpPr/>
          <p:nvPr/>
        </p:nvSpPr>
        <p:spPr>
          <a:xfrm>
            <a:off x="771480" y="495288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"/>
          <p:cNvSpPr/>
          <p:nvPr/>
        </p:nvSpPr>
        <p:spPr>
          <a:xfrm>
            <a:off x="2228760" y="487692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3" name=""/>
          <p:cNvSpPr/>
          <p:nvPr/>
        </p:nvSpPr>
        <p:spPr>
          <a:xfrm>
            <a:off x="4971960" y="52578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52578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6000840" y="52578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"/>
          <p:cNvSpPr/>
          <p:nvPr/>
        </p:nvSpPr>
        <p:spPr>
          <a:xfrm>
            <a:off x="6515280" y="52578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7" name=""/>
          <p:cNvSpPr/>
          <p:nvPr/>
        </p:nvSpPr>
        <p:spPr>
          <a:xfrm>
            <a:off x="6943680" y="52578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8" name=""/>
          <p:cNvSpPr/>
          <p:nvPr/>
        </p:nvSpPr>
        <p:spPr>
          <a:xfrm>
            <a:off x="4971960" y="57150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9" name=""/>
          <p:cNvSpPr/>
          <p:nvPr/>
        </p:nvSpPr>
        <p:spPr>
          <a:xfrm>
            <a:off x="6000840" y="57150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0" name=""/>
          <p:cNvSpPr/>
          <p:nvPr/>
        </p:nvSpPr>
        <p:spPr>
          <a:xfrm>
            <a:off x="6515280" y="57150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"/>
          <p:cNvSpPr/>
          <p:nvPr/>
        </p:nvSpPr>
        <p:spPr>
          <a:xfrm>
            <a:off x="5486400" y="579132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2" name=""/>
          <p:cNvSpPr/>
          <p:nvPr/>
        </p:nvSpPr>
        <p:spPr>
          <a:xfrm>
            <a:off x="6943680" y="57150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3" name=""/>
          <p:cNvSpPr/>
          <p:nvPr/>
        </p:nvSpPr>
        <p:spPr>
          <a:xfrm>
            <a:off x="7372440" y="43434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4" name=""/>
          <p:cNvSpPr/>
          <p:nvPr/>
        </p:nvSpPr>
        <p:spPr>
          <a:xfrm>
            <a:off x="7886880" y="43434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"/>
          <p:cNvSpPr/>
          <p:nvPr/>
        </p:nvSpPr>
        <p:spPr>
          <a:xfrm>
            <a:off x="8400960" y="43434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6" name=""/>
          <p:cNvSpPr/>
          <p:nvPr/>
        </p:nvSpPr>
        <p:spPr>
          <a:xfrm>
            <a:off x="8915400" y="43434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7" name=""/>
          <p:cNvSpPr/>
          <p:nvPr/>
        </p:nvSpPr>
        <p:spPr>
          <a:xfrm>
            <a:off x="9344160" y="43434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8" name=""/>
          <p:cNvSpPr/>
          <p:nvPr/>
        </p:nvSpPr>
        <p:spPr>
          <a:xfrm>
            <a:off x="7372440" y="4800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"/>
          <p:cNvSpPr/>
          <p:nvPr/>
        </p:nvSpPr>
        <p:spPr>
          <a:xfrm>
            <a:off x="8400960" y="4800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0" name=""/>
          <p:cNvSpPr/>
          <p:nvPr/>
        </p:nvSpPr>
        <p:spPr>
          <a:xfrm>
            <a:off x="8915400" y="4800600"/>
            <a:ext cx="51444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x</a:t>
            </a:r>
            <a:endParaRPr b="0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1" name=""/>
          <p:cNvSpPr/>
          <p:nvPr/>
        </p:nvSpPr>
        <p:spPr>
          <a:xfrm>
            <a:off x="7886880" y="487692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2" name=""/>
          <p:cNvSpPr/>
          <p:nvPr/>
        </p:nvSpPr>
        <p:spPr>
          <a:xfrm>
            <a:off x="9344160" y="4800600"/>
            <a:ext cx="514080" cy="4572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ffffcc"/>
                </a:solidFill>
                <a:latin typeface="Times New Roman"/>
              </a:rPr>
              <a:t>^_^</a:t>
            </a:r>
            <a:endParaRPr b="0" lang="en-US" sz="9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"/>
          <p:cNvSpPr/>
          <p:nvPr/>
        </p:nvSpPr>
        <p:spPr>
          <a:xfrm>
            <a:off x="8229600" y="3352680"/>
            <a:ext cx="428760" cy="8384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4" name=""/>
          <p:cNvSpPr/>
          <p:nvPr/>
        </p:nvSpPr>
        <p:spPr>
          <a:xfrm>
            <a:off x="3429000" y="3352680"/>
            <a:ext cx="942840" cy="9144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1199880" y="3505320"/>
            <a:ext cx="600120" cy="8380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515280" y="3352680"/>
            <a:ext cx="599760" cy="17528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7" name=""/>
          <p:cNvSpPr/>
          <p:nvPr/>
        </p:nvSpPr>
        <p:spPr>
          <a:xfrm>
            <a:off x="1441440" y="5457960"/>
            <a:ext cx="246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人們受到感染的速度將減緩，</a:t>
            </a:r>
            <a:br>
              <a:rPr sz="2000"/>
            </a:br>
            <a:r>
              <a:rPr b="0" lang="zh-TW" sz="2000" spc="-1" strike="noStrike">
                <a:solidFill>
                  <a:srgbClr val="ffff00"/>
                </a:solidFill>
                <a:latin typeface="標楷體"/>
                <a:ea typeface="標楷體"/>
              </a:rPr>
              <a:t>但若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疫苗或解藥不研發出來的話，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所有的人類終將難逃被感染的命運</a:t>
            </a:r>
            <a:br>
              <a:rPr sz="2000"/>
            </a:b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雖然不一定會死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8" name=""/>
          <p:cNvSpPr/>
          <p:nvPr/>
        </p:nvSpPr>
        <p:spPr>
          <a:xfrm>
            <a:off x="6830280" y="13716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第一波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9" name=""/>
          <p:cNvSpPr/>
          <p:nvPr/>
        </p:nvSpPr>
        <p:spPr>
          <a:xfrm>
            <a:off x="5658480" y="39639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第三波    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0" name=""/>
          <p:cNvSpPr/>
          <p:nvPr/>
        </p:nvSpPr>
        <p:spPr>
          <a:xfrm>
            <a:off x="4222440" y="25923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第二波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"/>
          <p:cNvSpPr/>
          <p:nvPr/>
        </p:nvSpPr>
        <p:spPr>
          <a:xfrm>
            <a:off x="514440" y="320760"/>
            <a:ext cx="93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一但人類認知瘟疫的可怕，於是開始防堵且隔離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病人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且防堵的完整率高達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80%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，那麼… 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RAS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的結局將會是…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2" name=""/>
          <p:cNvSpPr/>
          <p:nvPr/>
        </p:nvSpPr>
        <p:spPr>
          <a:xfrm>
            <a:off x="7315200" y="6248520"/>
            <a:ext cx="561960" cy="457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3" name=""/>
          <p:cNvSpPr/>
          <p:nvPr/>
        </p:nvSpPr>
        <p:spPr>
          <a:xfrm>
            <a:off x="9725040" y="5334120"/>
            <a:ext cx="561960" cy="457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4" name=""/>
          <p:cNvSpPr/>
          <p:nvPr/>
        </p:nvSpPr>
        <p:spPr>
          <a:xfrm>
            <a:off x="8229600" y="5562720"/>
            <a:ext cx="561960" cy="457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5410080"/>
            <a:ext cx="561960" cy="457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04560" y="5486400"/>
            <a:ext cx="53316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181480" y="6248520"/>
            <a:ext cx="53352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6629400" y="6248520"/>
            <a:ext cx="53352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7543800" y="5486400"/>
            <a:ext cx="53352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8991360" y="5410080"/>
            <a:ext cx="533160" cy="6098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1" name=""/>
          <p:cNvSpPr/>
          <p:nvPr/>
        </p:nvSpPr>
        <p:spPr>
          <a:xfrm>
            <a:off x="7934760" y="62499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第四波    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SAR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4T15:42:00Z</dcterms:created>
  <dc:creator/>
  <dc:description/>
  <dc:language>en-US</dc:language>
  <cp:lastModifiedBy>S&amp;D</cp:lastModifiedBy>
  <cp:lastPrinted>2000-12-06T06:21:53Z</cp:lastPrinted>
  <dcterms:modified xsi:type="dcterms:W3CDTF">2003-05-03T12:16:44Z</dcterms:modified>
  <cp:revision>1180</cp:revision>
  <dc:subject/>
  <dc:title>Tuberculosis in Taiw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0353375</vt:r8>
  </property>
  <property fmtid="{D5CDD505-2E9C-101B-9397-08002B2CF9AE}" pid="3" name="_AuthorEmail">
    <vt:lpwstr>edwardfong@msic.com.cn</vt:lpwstr>
  </property>
  <property fmtid="{D5CDD505-2E9C-101B-9397-08002B2CF9AE}" pid="4" name="_AuthorEmailDisplayName">
    <vt:lpwstr>edwardfong(馮彥文)=人事</vt:lpwstr>
  </property>
  <property fmtid="{D5CDD505-2E9C-101B-9397-08002B2CF9AE}" pid="5" name="_EmailSubject">
    <vt:lpwstr>關於避免感染SARS疾病的宣導</vt:lpwstr>
  </property>
</Properties>
</file>